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BB0-832B-4555-AAAE-A5777B61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BBB-D867-4492-8CDC-44A450AD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461-D19D-466D-9A5B-C47965D6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A6D-7F69-4467-A3C7-6021FD20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2F8-30B2-4DAC-9536-69362D7E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DA1-98DB-45DC-9623-FBE10ABD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B88-660B-42FD-99C4-1FE95ED5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F73-DE52-47B8-ACB8-B938E12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823-D40D-40CB-99EB-BEB60FD7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6FE-3A35-4B86-8607-9DD5E7C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E0B-8F50-4174-80BF-4F10BDC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D25-0C3B-4D03-909B-BE9FA4CC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FA1F-7802-4E54-93D7-0041DC935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1413000"/>
            <a:ext cx="502920" cy="431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1916280"/>
            <a:ext cx="503280" cy="431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2924280"/>
            <a:ext cx="503280" cy="431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3933720"/>
            <a:ext cx="503280" cy="432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4797360"/>
            <a:ext cx="503280" cy="432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5157720"/>
            <a:ext cx="503280" cy="432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5157720"/>
            <a:ext cx="503280" cy="432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4581360"/>
            <a:ext cx="503280" cy="432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3645000"/>
            <a:ext cx="503280" cy="431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2637000"/>
            <a:ext cx="503280" cy="431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1773360"/>
            <a:ext cx="503280" cy="431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413000"/>
            <a:ext cx="503280" cy="431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Costituzione Europ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IRI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V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ign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Liber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icur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Propri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str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Costruire un’Europa veramente u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Futuro di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Parità tra uomini e 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Collabo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46748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str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Blackadder ITC"/>
              </a:rPr>
              <a:t>Giusnaturalis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La convivenza umana può esistere solo entro uno 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Lo Stato ha un’origine artificiale in quanto opera della volontà r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Lo Stato come istituzione nasce al momento del passaggio da Stato primitivo a Stato civ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Il contratto ha un ruolo fondamentale nella riconferma del vincolo poli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Il criterio ispiratore della legislazione deve essere la legge naturale e r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1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5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250"/>
                            </p:stCondLst>
                            <p:childTnLst>
                              <p:par>
                                <p:cTn id="12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75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25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75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LOC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Diritti dell’uomo               liber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alute                                 per otten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un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diritto alla PROPRIE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(ciò che produco con il mio lavoro è mio)                   PRODO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2205000"/>
            <a:ext cx="1150920" cy="432000"/>
          </a:xfrm>
          <a:prstGeom prst="rightArrow">
            <a:avLst>
              <a:gd name="adj1" fmla="val 41176"/>
              <a:gd name="adj2" fmla="val 58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29264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44000" y="2349360"/>
            <a:ext cx="576000" cy="2592360"/>
          </a:xfrm>
          <a:custGeom>
            <a:avLst/>
            <a:gdLst>
              <a:gd name="textAreaLeft" fmla="*/ 77040 w 576000"/>
              <a:gd name="textAreaRight" fmla="*/ 498960 w 576000"/>
              <a:gd name="textAreaTop" fmla="*/ 453600 h 2592360"/>
              <a:gd name="textAreaBottom" fmla="*/ 18795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627280" y="213372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00360" y="2781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3068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3141720"/>
            <a:ext cx="71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DEMOCRAZIA RAPPRESENT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ARLAMENTO                  SOV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organo legislativo                           organo es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conc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DIRITTI NATURALI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 uomo/cittad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3141720"/>
            <a:ext cx="574560" cy="1366920"/>
          </a:xfrm>
          <a:prstGeom prst="upArrow">
            <a:avLst>
              <a:gd name="adj1" fmla="val 50000"/>
              <a:gd name="adj2" fmla="val 594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2205000"/>
            <a:ext cx="1152360" cy="432000"/>
          </a:xfrm>
          <a:prstGeom prst="leftRightArrow">
            <a:avLst>
              <a:gd name="adj1" fmla="val 50000"/>
              <a:gd name="adj2" fmla="val 531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7380360" y="558972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NOZ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Libero mercato                         Anarcocapitalis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(von Hayek)                            regolazione capit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           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della società (Rothbard)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Diritti natural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vita,salute,liber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proprietà (Loc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                 </a:t>
            </a: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LIBERALISMO INDIVIDUALIST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ANARCOCAPITALISTA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700360" y="1557360"/>
            <a:ext cx="1008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8360" y="1628640"/>
            <a:ext cx="287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780000" y="1700280"/>
            <a:ext cx="504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0000" y="3716280"/>
            <a:ext cx="936720" cy="1728720"/>
          </a:xfrm>
          <a:custGeom>
            <a:avLst/>
            <a:gdLst>
              <a:gd name="textAreaLeft" fmla="*/ 125280 w 936720"/>
              <a:gd name="textAreaRight" fmla="*/ 811440 w 93672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RAW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LIBERTA’                                      PRINCIPIO di DIFFERENZ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EGUAGLIANZA: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le uniche disuguaglianze amm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Nessuna differenza fra                     servono per favorire i m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I cittadini, uguali libertà                    abbi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TATO REDISTRIBU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a vantaggio dei meno abbienti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LIBERALISMO WELFARISTA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7667640" y="6021360"/>
            <a:ext cx="649440" cy="432000"/>
          </a:xfrm>
          <a:custGeom>
            <a:avLst/>
            <a:gdLst>
              <a:gd name="textAreaLeft" fmla="*/ 27720 w 649440"/>
              <a:gd name="textAreaRight" fmla="*/ 621720 w 649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63" h="21600">
                <a:moveTo>
                  <a:pt x="0" y="0"/>
                </a:moveTo>
                <a:lnTo>
                  <a:pt x="32463" y="0"/>
                </a:lnTo>
                <a:lnTo>
                  <a:pt x="32463" y="21600"/>
                </a:lnTo>
                <a:lnTo>
                  <a:pt x="0" y="21600"/>
                </a:lnTo>
                <a:close/>
              </a:path>
              <a:path fill="lightenLess" w="32463" h="21600">
                <a:moveTo>
                  <a:pt x="0" y="0"/>
                </a:moveTo>
                <a:lnTo>
                  <a:pt x="32463" y="0"/>
                </a:lnTo>
                <a:lnTo>
                  <a:pt x="31063" y="1400"/>
                </a:lnTo>
                <a:lnTo>
                  <a:pt x="1400" y="1400"/>
                </a:lnTo>
                <a:close/>
              </a:path>
              <a:path fill="darken" w="32463" h="21600">
                <a:moveTo>
                  <a:pt x="32463" y="0"/>
                </a:moveTo>
                <a:lnTo>
                  <a:pt x="32463" y="21600"/>
                </a:lnTo>
                <a:lnTo>
                  <a:pt x="31063" y="20200"/>
                </a:lnTo>
                <a:lnTo>
                  <a:pt x="31063" y="1400"/>
                </a:lnTo>
                <a:close/>
              </a:path>
              <a:path fill="darkenLess" w="32463" h="21600">
                <a:moveTo>
                  <a:pt x="32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3" y="20200"/>
                </a:lnTo>
                <a:close/>
              </a:path>
              <a:path fill="lighten" w="32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3" h="21600">
                <a:moveTo>
                  <a:pt x="9225" y="3794"/>
                </a:moveTo>
                <a:lnTo>
                  <a:pt x="23238" y="10800"/>
                </a:lnTo>
                <a:lnTo>
                  <a:pt x="922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124000" y="1557360"/>
            <a:ext cx="151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1557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148428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3860640"/>
            <a:ext cx="1008000" cy="18734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27600 h 1873440"/>
              <a:gd name="textAreaBottom" fmla="*/ 135828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lexis de Tocquev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1844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idea dei diritti non è altro che quella della virtù introdotta nel mondo politico, nulla è di più fecondo dei meravigliosi risultati dell’arte di essere liberi; ma nulla è nulla è più difficile dell’imparare ad essere liber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8:23:43Z</dcterms:created>
  <dc:creator>Auto</dc:creator>
  <dc:description/>
  <dc:language>en-US</dc:language>
  <cp:lastModifiedBy>Fede</cp:lastModifiedBy>
  <dcterms:modified xsi:type="dcterms:W3CDTF">2006-03-23T10:28:26Z</dcterms:modified>
  <cp:revision>10</cp:revision>
  <dc:subject/>
  <dc:title>GIUSNATURALISMO</dc:title>
</cp:coreProperties>
</file>