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24E-6B64-417C-9579-FE9836CA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72E-3FD0-41A9-9960-99466E89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3F7-A79D-4CCF-B817-3E6E87D1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A255-FD0C-485D-89A3-F719F585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801B-E018-4F97-9E14-47204038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265-ACD9-4FEC-AFC5-A6C76F64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FE0-9197-4D3F-8191-B8DFA8F6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FE90-27C9-4C63-AC95-60E9C405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2D1-B26A-4E20-A6B0-B1C37D8E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4CA-9080-4F35-9EBB-75D56A88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12F-A949-4872-A0C8-F7D69BD7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912-4E58-410D-B9E3-A315BC3A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6F33-DF31-4073-83B2-14C1C4C1F8B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zzismo, xenofobia, intolleranza: come riconoscerli, come combatter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4360" y="1052640"/>
            <a:ext cx="741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Conoscere l’Europa – Fare gli europe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2230560" cy="1469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64000" y="630864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^Eli A - “I.T.I. A. Malignan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os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abbiamo divise in tre amb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lastic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vorativ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r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92360" cy="5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7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4000"/>
                            </p:stCondLst>
                            <p:childTnLst>
                              <p:par>
                                <p:cTn id="7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0"/>
                            </p:stCondLst>
                            <p:childTnLst>
                              <p:par>
                                <p:cTn id="7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48000" y="333360"/>
            <a:ext cx="2665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mbi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133720"/>
            <a:ext cx="187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port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2276640"/>
            <a:ext cx="22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Lavorat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2133720"/>
            <a:ext cx="216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Scolast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2924280"/>
            <a:ext cx="2160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gnamento delle  religioni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e in classe di fenomeni di razzismo e xenofob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2852640"/>
            <a:ext cx="23749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goziati con i paesi degli immigrati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tica finalizzata alla loro introduzione nel mondo del lavo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43640" y="2924280"/>
            <a:ext cx="23749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e più severe contro il razzismo negli stad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140360" y="1341360"/>
            <a:ext cx="1123920" cy="939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3520" y="1125360"/>
            <a:ext cx="833400" cy="924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476360" y="1125360"/>
            <a:ext cx="871560" cy="100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7832880" y="1268280"/>
            <a:ext cx="604800" cy="93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804000" y="1268280"/>
            <a:ext cx="819000" cy="675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179280" y="189000"/>
            <a:ext cx="792360" cy="5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263700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mite queste nostre proposte crediamo che i fenomeni di razzismo possano diminuire all’interno dell’UE, soprattutto investendo sull’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struzi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e è lo strumento per la formazione di ideali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mocratic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ondati su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ispet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 sull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lleranz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i tutti gli esseri uma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348000" y="189000"/>
            <a:ext cx="2089080" cy="137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azzismo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teggiamenti di discriminazione su base etnica/razzi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enofobi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ura di ciò che è distinto per natura, razza o speci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92360" cy="5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8000" y="1052640"/>
            <a:ext cx="5540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e Seconda Guerra Mond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34920" y="4220640"/>
            <a:ext cx="5616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Dicembre 19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95640" y="1989000"/>
            <a:ext cx="1008000" cy="2087640"/>
          </a:xfrm>
          <a:prstGeom prst="downArrow">
            <a:avLst>
              <a:gd name="adj1" fmla="val 50000"/>
              <a:gd name="adj2" fmla="val 51777"/>
            </a:avLst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92360" cy="522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50920" y="5157720"/>
            <a:ext cx="87138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DICHIARAZIONE UNIVERSALE DEI DIRITTI DELL’UOMO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948360" y="3933720"/>
            <a:ext cx="981360" cy="8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440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rt. 1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nunciazione della libertà naturale e dell’uguaglianza delle persone.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58920" y="2565000"/>
            <a:ext cx="662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rt. 2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: divieto di discriminazione per ragioni di razza, di colore, di sesso, di lingua, di religione, di opinione politica o di altro genere, di origine nazionale o sociale, di ricchezza, di nascita o di altra condizi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40464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44760" y="523800"/>
            <a:ext cx="73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CHIARAZIONE UNIVERSALE DEI DIRITTI DELL’UOMO”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4508640"/>
            <a:ext cx="6400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rt. 3 ... Art.29: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ritti inalienabili dell’uo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92360" cy="522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68360" y="5805360"/>
            <a:ext cx="476280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0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HIARAZIONE UNIVERSALE DEI DIRITTI DELL’UOM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5157360"/>
            <a:ext cx="40388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e morale e poli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1640" y="5229000"/>
            <a:ext cx="432108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ncolo del rispetto delle libertà tra gli St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76500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livello MOND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7280" y="1628640"/>
            <a:ext cx="792000" cy="1224000"/>
          </a:xfrm>
          <a:prstGeom prst="downArrow">
            <a:avLst>
              <a:gd name="adj1" fmla="val 50000"/>
              <a:gd name="adj2" fmla="val 3863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3187800">
            <a:off x="5435640" y="4149360"/>
            <a:ext cx="1403280" cy="682560"/>
          </a:xfrm>
          <a:custGeom>
            <a:avLst/>
            <a:gdLst>
              <a:gd name="textAreaLeft" fmla="*/ 219240 w 1403280"/>
              <a:gd name="textAreaRight" fmla="*/ 1227960 w 1403280"/>
              <a:gd name="textAreaTop" fmla="*/ 170640 h 682560"/>
              <a:gd name="textAreaBottom" fmla="*/ 511920 h 682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7679400">
            <a:off x="1979640" y="4076280"/>
            <a:ext cx="1403280" cy="682560"/>
          </a:xfrm>
          <a:custGeom>
            <a:avLst/>
            <a:gdLst>
              <a:gd name="textAreaLeft" fmla="*/ 219240 w 1403280"/>
              <a:gd name="textAreaRight" fmla="*/ 1227960 w 1403280"/>
              <a:gd name="textAreaTop" fmla="*/ 170640 h 682560"/>
              <a:gd name="textAreaBottom" fmla="*/ 511920 h 682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92360" cy="522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59280" y="184464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dicembre 194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24360" y="3860640"/>
            <a:ext cx="981000" cy="8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000"/>
                            </p:stCondLst>
                            <p:childTnLst>
                              <p:par>
                                <p:cTn id="2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4920" y="2491920"/>
            <a:ext cx="7993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nzione europea per la salvaguardia dei diritti dell’uomo e delle libertà fondamental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4653000"/>
            <a:ext cx="3240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ù valore giuri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35280" y="76500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livello EUROPE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67280" y="1484280"/>
            <a:ext cx="504720" cy="936720"/>
          </a:xfrm>
          <a:prstGeom prst="downArrow">
            <a:avLst>
              <a:gd name="adj1" fmla="val 50000"/>
              <a:gd name="adj2" fmla="val 4639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7251000">
            <a:off x="1315080" y="3661560"/>
            <a:ext cx="1258560" cy="650880"/>
          </a:xfrm>
          <a:custGeom>
            <a:avLst/>
            <a:gdLst>
              <a:gd name="textAreaLeft" fmla="*/ 196560 w 1258560"/>
              <a:gd name="textAreaRight" fmla="*/ 1101240 w 1258560"/>
              <a:gd name="textAreaTop" fmla="*/ 162720 h 650880"/>
              <a:gd name="textAreaBottom" fmla="*/ 488160 h 65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92360" cy="522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148360" y="17002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Novembre 19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1186200" y="5085360"/>
            <a:ext cx="1008000" cy="1295640"/>
          </a:xfrm>
          <a:custGeom>
            <a:avLst/>
            <a:gdLst>
              <a:gd name="textAreaLeft" fmla="*/ 335880 w 1008000"/>
              <a:gd name="textAreaRight" fmla="*/ 863640 w 1008000"/>
              <a:gd name="textAreaTop" fmla="*/ 746280 h 1295640"/>
              <a:gd name="textAreaBottom" fmla="*/ 1109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40000" y="5373720"/>
            <a:ext cx="5761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te europea dei diritti dell’uom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uò condannare lo Stato ad un risarcimento per violazione di diritti um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0"/>
                            </p:stCondLst>
                            <p:childTnLst>
                              <p:par>
                                <p:cTn id="3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000"/>
                            </p:stCondLst>
                            <p:childTnLst>
                              <p:par>
                                <p:cTn id="3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43927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ituzione d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bunali internaz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92360" cy="522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24360" y="2133720"/>
            <a:ext cx="1295280" cy="1657080"/>
          </a:xfrm>
          <a:prstGeom prst="downArrow">
            <a:avLst>
              <a:gd name="adj1" fmla="val 50000"/>
              <a:gd name="adj2" fmla="val 319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789360"/>
            <a:ext cx="83534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Corte Penale Internazionale (CPI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515772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 il compito di giudicare, qualora non lo facciano i singoli Stati, gli autori dei più gravi crimini quali i crimini di guerra e i genoci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76720" y="242100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va dal 1 Luglio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L'immagine “http://www.icc-cpi.int/images/index/splash_logo.gif” non può essere visualizzata poiché contiene degli errori."/>
          <p:cNvPicPr/>
          <p:nvPr/>
        </p:nvPicPr>
        <p:blipFill>
          <a:blip r:embed="rId2"/>
          <a:stretch/>
        </p:blipFill>
        <p:spPr>
          <a:xfrm>
            <a:off x="1835280" y="2421000"/>
            <a:ext cx="114300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92360" cy="522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uazione odiern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32360" y="2565000"/>
            <a:ext cx="1662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628640"/>
            <a:ext cx="2809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zzismo in Europ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236000" y="3357720"/>
            <a:ext cx="1001520" cy="1296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780000" y="1197000"/>
            <a:ext cx="1871640" cy="160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2708280"/>
            <a:ext cx="4032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zzismo Anti-meridion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zzismo Anti-semi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olleranza verso altre religion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olleranza verso i popoli orientali, dei Balcani e del Mediori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zzismo di col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0"/>
            <a:endCxn id="93" idx="0"/>
          </p:cNvCxnSpPr>
          <p:nvPr/>
        </p:nvCxnSpPr>
        <p:spPr>
          <a:xfrm flipH="1" rot="16200000">
            <a:off x="2195640" y="27079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95" name=""/>
          <p:cNvSpPr/>
          <p:nvPr/>
        </p:nvSpPr>
        <p:spPr>
          <a:xfrm>
            <a:off x="3708360" y="371628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997360"/>
            <a:ext cx="374328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484360" y="4508280"/>
            <a:ext cx="453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stegno europ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nziamenti a progetti c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92360" cy="522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242100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bilizzano l’opinione pubblica relativa al razzism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06864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gnano ai cittadini i vantaggi delle politiche di integrazione, promuovono il principio di solidarietà tra tutti i membri della società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429264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o innovativi e promuovono l’uso di nuovi strumenti di lotta contro il razzismo, la xenofobia e l’intolleranz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30064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no i migranti nella vita economica attraverso consulenze d’inform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9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6T15:41:23Z</dcterms:created>
  <dc:creator>Fede</dc:creator>
  <dc:description/>
  <dc:language>en-US</dc:language>
  <cp:lastModifiedBy>Fede</cp:lastModifiedBy>
  <dcterms:modified xsi:type="dcterms:W3CDTF">2006-03-27T01:10:17Z</dcterms:modified>
  <cp:revision>46</cp:revision>
  <dc:subject/>
  <dc:title>Conoscere l’Europa – Fare gli europei</dc:title>
</cp:coreProperties>
</file>