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696-D5A8-4885-A2DD-0F2D5E6C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965-4489-4C12-89EB-6E38479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75E-CC5E-4F36-8F8F-7A1504AE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2D0-9DB1-46EF-AE2A-BF4CDA97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A70-A965-4B56-862B-C2B25E98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882-342C-41F4-B3B8-A23D784C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03D-D3EA-4109-84AD-833E8441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B54-CD31-4140-8969-E783AFE7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34EA-E047-45C3-97D9-B86EB739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5A4D-894B-4A9F-BCB6-F61A0B80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137-E27A-4F52-94D7-5710F13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2DD-682A-4B0C-9F71-8FD160B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BB88-73E6-4ACE-934D-0BB8C8AA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7440" y="7213680"/>
            <a:ext cx="3771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Handwriting"/>
                <a:ea typeface="Times New Roman"/>
              </a:rPr>
              <a:t>Come riconoscerli e come combatterl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28800" y="1727280"/>
            <a:ext cx="3343320" cy="497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RAZZISMO 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XENOFOBIA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E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00"/>
                  </a:solidFill>
                  <a:miter/>
                </a:ln>
                <a:noFill/>
                <a:latin typeface="Arial Black"/>
              </a:rPr>
              <a:t>INTOLLERANZA</a:t>
            </a:r>
            <a:endParaRPr b="0" lang="en-US" sz="2400" spc="1" strike="noStrike">
              <a:ln w="25560">
                <a:solidFill>
                  <a:srgbClr val="000000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571680" y="406440"/>
            <a:ext cx="5600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TITUTO D’ISTRUZIONE SUPERIORE “I. BACHMANN” TARVIS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NO SCOLASTICO 2005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D00-5A2B-44FD-9ADF-B02EA3A9B5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85800" y="304920"/>
          <a:ext cx="5372280" cy="883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5372280" cy="88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14B-3882-47B4-91A0-A807C3A782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14400" y="304920"/>
          <a:ext cx="4915080" cy="85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4915080" cy="85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56C-0F81-4C99-BBFE-081B8A564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43040" y="1320840"/>
            <a:ext cx="5257800" cy="538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LTRE REGIONI D'ITALI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4A4A-7594-408C-9687-CF2E642A5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028880" y="1727280"/>
          <a:ext cx="468612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27280"/>
                    <a:ext cx="468612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57160" y="5079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INTERVI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A69-3395-40EF-AB3A-CFAE472B9B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71600" y="203040"/>
          <a:ext cx="3600360" cy="47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3040"/>
                    <a:ext cx="360036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-885960" y="4775040"/>
          <a:ext cx="8496360" cy="415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885960" y="4775040"/>
                    <a:ext cx="84963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709-D0B0-46B0-956B-6501830DE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708280" y="468360"/>
          <a:ext cx="4427640" cy="596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8280" y="468360"/>
                    <a:ext cx="442764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476280" y="5916600"/>
          <a:ext cx="4379760" cy="322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5916600"/>
                    <a:ext cx="43797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0" y="1042920"/>
          <a:ext cx="2708280" cy="4003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042920"/>
                    <a:ext cx="2708280" cy="40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ED7-7B52-4EF5-A853-8408D8141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1360" y="203040"/>
          <a:ext cx="3008520" cy="45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203040"/>
                    <a:ext cx="300852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257640" y="3352680"/>
          <a:ext cx="3600360" cy="5194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3352680"/>
                    <a:ext cx="3600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850-840F-4E36-BA84-B49C5EC4F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682560" y="1828800"/>
          <a:ext cx="5492880" cy="55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828800"/>
                    <a:ext cx="5492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914400" y="507960"/>
            <a:ext cx="49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NIENZA DEGLI INTERVI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5FB-7159-461A-85B3-BDC0EBBDAA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71360" y="304920"/>
          <a:ext cx="5829480" cy="792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304920"/>
                    <a:ext cx="5829480" cy="79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813-8B3D-45A3-8676-D1D4C432A6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45960" y="250920"/>
          <a:ext cx="651204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0920"/>
                    <a:ext cx="651204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989000" y="4572000"/>
          <a:ext cx="3492720" cy="4305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9000" y="4572000"/>
                    <a:ext cx="349272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0E8-4D4C-49B1-9816-A611CA48C4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85760" y="1828800"/>
            <a:ext cx="46864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LTRI STATI DEL MONDO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B05-316C-41B2-9481-C1D5E3AB5C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5702400" cy="48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0240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257640" y="4267080"/>
          <a:ext cx="3143160" cy="436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267080"/>
                    <a:ext cx="314316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AB3-8500-40EB-85A4-6A58A2478F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314360" y="304920"/>
          <a:ext cx="3886200" cy="85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304920"/>
                    <a:ext cx="3886200" cy="85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7FD-FAE1-40BC-95C6-BE6DC91058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971640" y="204840"/>
          <a:ext cx="4514760" cy="843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4840"/>
                    <a:ext cx="4514760" cy="84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7B1-375C-461E-858D-7289827DE6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197000" y="324000"/>
          <a:ext cx="4319640" cy="792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7000" y="324000"/>
                    <a:ext cx="4319640" cy="79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E REGION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DE1-6C94-48D0-B05D-817203761C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86080" y="1117440"/>
            <a:ext cx="3714480" cy="558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ATIV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F1C-D436-43DA-8F1A-502FC58A19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314360" y="1371600"/>
          <a:ext cx="41148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1371600"/>
                    <a:ext cx="4114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971640" y="406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INTERVI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V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CD8-364B-4B52-9A92-C004E38121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69840"/>
          <a:ext cx="4457880" cy="900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9840"/>
                    <a:ext cx="4457880" cy="900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V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67E1-7F50-44C2-B856-334C985E51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327320" y="304920"/>
          <a:ext cx="4216320" cy="833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304920"/>
                    <a:ext cx="4216320" cy="83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V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A6F-22B0-4A9F-B28A-D6E0368438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257480" y="203040"/>
          <a:ext cx="3886200" cy="809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03040"/>
                    <a:ext cx="3886200" cy="809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V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D6D-6162-438F-A08B-28CF9A5CCA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314360" y="1523880"/>
          <a:ext cx="394668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4360" y="1523880"/>
                    <a:ext cx="39466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V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949-9382-47B5-B783-896D9BBE5BC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406440"/>
            <a:ext cx="47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RI STATI DEL M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43040" y="1179360"/>
          <a:ext cx="5029200" cy="677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179360"/>
                    <a:ext cx="502920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2C3-B859-4FAC-A9CA-5C7093460C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00240" y="406440"/>
          <a:ext cx="3886200" cy="74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406440"/>
                    <a:ext cx="388620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TIV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26F-D86F-46B3-AF6A-414FE7E77D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886040" y="2336760"/>
            <a:ext cx="2743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AUSTRIACI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912-5FC6-4BF7-B98F-C1ADA67C74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971640" y="2031840"/>
          <a:ext cx="4914720" cy="558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31840"/>
                    <a:ext cx="4914720" cy="558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028880" y="507960"/>
            <a:ext cx="42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INTERVI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STRIAC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932-34A8-4E96-AE94-CCF535CB1D2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69840"/>
          <a:ext cx="6858000" cy="900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840"/>
                    <a:ext cx="6858000" cy="900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STRIAC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391-94EA-447B-9D9D-6DE246F9F9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07920" y="250920"/>
          <a:ext cx="468468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50920"/>
                    <a:ext cx="468468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836640" y="4284720"/>
          <a:ext cx="5369040" cy="424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4284720"/>
                    <a:ext cx="53690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STRIAC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1C0-7E44-40C2-BD09-FD92567ADA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00240" y="976320"/>
          <a:ext cx="4343400" cy="599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976320"/>
                    <a:ext cx="4343400" cy="59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STRIAC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497-BCD5-4129-970F-91D28CBAF5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28880" y="304920"/>
          <a:ext cx="4457520" cy="80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304920"/>
                    <a:ext cx="4457520" cy="80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USTRIAC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4A3-8B72-4BCF-A7D0-74E3113E0C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TRI STAT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G.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LTRE REGIONI  PAG.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ATIV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G. 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STRIACI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AG. 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37B-02E1-4DFC-BFC6-BFA323CB3D0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1763640"/>
          <a:ext cx="6858000" cy="602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3640"/>
                    <a:ext cx="6858000" cy="602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43040" y="609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NIENZA DEGLI INTERVIS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6F4-0EFA-4263-8A8E-D950E43CE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4480" y="406440"/>
          <a:ext cx="6743520" cy="833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406440"/>
                    <a:ext cx="6743520" cy="83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18F-7030-48E9-86CB-FB21E73BBF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3080" y="722160"/>
          <a:ext cx="6114960" cy="791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722160"/>
                    <a:ext cx="6114960" cy="791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EDD-1F74-4F56-A723-27F31FEDF9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304920"/>
          <a:ext cx="541188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41188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839960" y="4546440"/>
          <a:ext cx="5018040" cy="4597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9960" y="4546440"/>
                    <a:ext cx="501804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886-DDA8-47BD-A9BC-1BEC7A9605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00280" y="914400"/>
          <a:ext cx="5543280" cy="711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14400"/>
                    <a:ext cx="5543280" cy="71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807-67D7-4962-AF1D-581DE30C5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28560" y="88920"/>
          <a:ext cx="5486400" cy="896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88920"/>
                    <a:ext cx="5486400" cy="896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TRI STAT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90F-D803-4EF0-BA16-43CAFC228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21:09:19Z</dcterms:created>
  <dc:creator>francesca</dc:creator>
  <dc:description/>
  <dc:language>en-US</dc:language>
  <cp:lastModifiedBy>Tarvisio</cp:lastModifiedBy>
  <dcterms:modified xsi:type="dcterms:W3CDTF">2006-03-14T11:09:06Z</dcterms:modified>
  <cp:revision>3</cp:revision>
  <dc:subject/>
  <dc:title>Presentazione di PowerPoint</dc:title>
</cp:coreProperties>
</file>