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D47-89A2-4DEB-99E6-A33F8028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4B1-95FA-4741-A3C1-3AE1CEFB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40A-FDC9-44B3-B475-C5A80B80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E9D-312F-43C6-8ED6-A1F78C94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E271-434E-48A1-A5BE-2C4631C8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4122-7D34-498F-8172-DF1F44EA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4751-0E6E-47EA-BD8F-38924BF1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8D95-FA1C-4A0A-ACFF-E4C4FD05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8AA9-6554-4E25-97F5-21D1DB7F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3CDB-3529-4E9B-955C-80D31686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001B-B572-43DC-877A-7906062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357-C500-45F0-BEB7-BE6EEC1B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EF2-50E4-499A-B6EF-A529867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5D22-6E1D-4ED9-8BAA-CA0CDA0B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F58B-FB3A-4CC7-9EC9-D601E97A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D480-18BD-498F-A0D8-2C92E44F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00B5-FFE6-42F4-A01E-122C50CA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9AB-C462-457E-971E-7225A6F1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CBF-CEE7-4AC1-8AE8-2B348BEF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1B8-6C34-492A-8045-2E9A5752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955-B7B4-45BA-98FD-8CA4730D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9F4-18AD-4233-88CE-9CDBE9F9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7C4-D23C-4E2E-9B4C-87A74179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F34-6748-4F3A-9D3F-D96E98C2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6FB2-FFB2-4328-8135-B4142D784580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8CA0-587E-4AC6-A40E-5D1A14D31A7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AF70-8DB9-4990-8405-BC3AA8BA7906}" type="datetime">
              <a:rPr b="0" lang="it-IT" sz="1400" spc="-1" strike="noStrike">
                <a:solidFill>
                  <a:srgbClr val="1c1c1c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25EB-E721-4A59-94B8-363A60026179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333399"/>
                </a:solidFill>
                <a:latin typeface="Comic Sans MS"/>
              </a:rPr>
              <a:t>UNITI NELLA DIVERSIT</a:t>
            </a:r>
            <a:r>
              <a:rPr b="0" lang="en-US" sz="4600" spc="-1" strike="noStrike">
                <a:solidFill>
                  <a:srgbClr val="333399"/>
                </a:solidFill>
                <a:latin typeface="Comic Sans MS"/>
                <a:ea typeface="Arial"/>
              </a:rPr>
              <a:t>À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3808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Less" w="21600" h="26975">
                <a:moveTo>
                  <a:pt x="5273" y="6672"/>
                </a:moveTo>
                <a:lnTo>
                  <a:pt x="12271" y="6672"/>
                </a:lnTo>
                <a:lnTo>
                  <a:pt x="16327" y="10171"/>
                </a:lnTo>
                <a:lnTo>
                  <a:pt x="16327" y="20302"/>
                </a:lnTo>
                <a:lnTo>
                  <a:pt x="5273" y="20302"/>
                </a:lnTo>
                <a:close/>
              </a:path>
              <a:path fill="darken" w="21600" h="26975">
                <a:moveTo>
                  <a:pt x="12271" y="6672"/>
                </a:moveTo>
                <a:lnTo>
                  <a:pt x="16327" y="10171"/>
                </a:lnTo>
                <a:lnTo>
                  <a:pt x="12271" y="10171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542916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015BF-94CF-4551-97F7-27BEF36F694C}" type="datetime1">
              <a:rPr lang="en-US"/>
              <a:t>07/31/26</a:t>
            </a:fld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Ucrai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azione del nuovo governo democratico; programma di riforme politiche, economiche e giudiziari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importanza dello Stato di diritto e di un sistema giudiziario indipendente e imparziale per gli Stati membri dell'Unione europea. Fondamentale per la presidenza UE rafforzare il piano d'azione e risolvere la questione relativa alla concessione dei visti nel rispetto delle esigenze di sicurezza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Unione europea continuerà ad aiutare l'Ucraina perché questa possa proseguire i suoi sforzi in materia di giustizia, di libertà e di sicurezza e perché metta in atto non appena possibile questo piano d'azion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162920" y="990720"/>
            <a:ext cx="106668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382D6-A867-4E16-8B52-505D353095F5}" type="datetime1">
              <a:rPr lang="en-US"/>
              <a:t>07/31/26</a:t>
            </a:fld>
          </a:p>
        </p:txBody>
      </p:sp>
    </p:spTree>
  </p:cSld>
  <p:transition spd="slow"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ifferenze da dover accetta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lture diverse: bisogna convivere con diverse culture, lingue, popoli e tradizioni. I cittadini dell’Unione Europea hanno diverse nazionalità e quindi devono imparare a vivere insieme, conoscersi per promuovere la pace, la solidarietà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gioni diverse: l’Unione Europea è un istituzione laica ed è abitata da popoli con diverse confessioni religiose e quindi vi è la necessità di convivere assieme nel reciproco rispetto delle proprie abitudini religio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5335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Less" w="21600" h="27000">
                <a:moveTo>
                  <a:pt x="5273" y="6685"/>
                </a:moveTo>
                <a:lnTo>
                  <a:pt x="12271" y="6685"/>
                </a:lnTo>
                <a:lnTo>
                  <a:pt x="16327" y="10184"/>
                </a:lnTo>
                <a:lnTo>
                  <a:pt x="16327" y="20315"/>
                </a:lnTo>
                <a:lnTo>
                  <a:pt x="5273" y="20315"/>
                </a:lnTo>
                <a:close/>
              </a:path>
              <a:path fill="darken" w="21600" h="27000">
                <a:moveTo>
                  <a:pt x="12271" y="6685"/>
                </a:moveTo>
                <a:lnTo>
                  <a:pt x="16327" y="10184"/>
                </a:lnTo>
                <a:lnTo>
                  <a:pt x="12271" y="10184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6095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E9823-F8C9-44A0-B216-105127945770}" type="datetime1">
              <a:rPr lang="en-US"/>
              <a:t>07/31/26</a:t>
            </a:fld>
          </a:p>
        </p:txBody>
      </p:sp>
    </p:spTree>
  </p:cSld>
  <p:transition spd="slow">
    <p:checker dir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700"/>
                            </p:stCondLst>
                            <p:childTnLst>
                              <p:par>
                                <p:cTn id="278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ltri probabili paesi dei Balcani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978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Alban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Bosnia Erzegov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hlinkClick r:id="rId3" action="ppaction://hlinksldjump"/>
              </a:rPr>
              <a:t>Unione di Serbia e Monteneg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5335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188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B0F29-52A0-4751-8F0F-205621CFF706}" type="datetime1">
              <a:rPr lang="en-US"/>
              <a:t>07/31/26</a:t>
            </a:fld>
          </a:p>
        </p:txBody>
      </p:sp>
    </p:spTree>
  </p:cSld>
  <p:transition spd="slow">
    <p:pull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lb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45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stabilizzazione democratica (riforma elettorale e la realizzazione di progetti a sostegno della società civile), rispetto dei diritti umani, civili e politici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riforma del sistema giudiziario, delle procure e delle forze dell'ordine per la lotta alla corruzione e al crimine organizzato, in forma compatibile con i modelli comunitari ed il potenziamento dei controlli alle frontiere, da raggiungere attraverso modalità di cooperazione regionale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crescita socio-economica, la tutela delle risorse ambientali e naturali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83059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0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20">
                <a:moveTo>
                  <a:pt x="10800" y="417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20">
                <a:moveTo>
                  <a:pt x="8224" y="8234"/>
                </a:moveTo>
                <a:lnTo>
                  <a:pt x="12088" y="8234"/>
                </a:lnTo>
                <a:lnTo>
                  <a:pt x="12088" y="15232"/>
                </a:lnTo>
                <a:lnTo>
                  <a:pt x="13376" y="15232"/>
                </a:lnTo>
                <a:lnTo>
                  <a:pt x="13376" y="16154"/>
                </a:lnTo>
                <a:lnTo>
                  <a:pt x="8224" y="16154"/>
                </a:lnTo>
                <a:lnTo>
                  <a:pt x="8224" y="15232"/>
                </a:lnTo>
                <a:lnTo>
                  <a:pt x="9512" y="15232"/>
                </a:lnTo>
                <a:lnTo>
                  <a:pt x="9512" y="9139"/>
                </a:lnTo>
                <a:lnTo>
                  <a:pt x="8224" y="913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B60FB-994C-41CD-8C09-A7794EF91A78}" type="datetime1">
              <a:rPr lang="en-US"/>
              <a:t>07/31/26</a:t>
            </a:fld>
          </a:p>
        </p:txBody>
      </p:sp>
    </p:spTree>
  </p:cSld>
  <p:transition spd="slow"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osnia Erzegovi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li obiettivi prioritari riguardano la ricostruzione di strutture politiche e sociali stabili e la pianificazione di un efficace sistema economico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costruzione di strutture ed infrastrutture; rientro di sfollati e profughi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o ai processi di democratizzazione e coesione sociale: attraverso l'Iniziativa Europea per la Democrazia ed i Diritti Umani, sono stati finanziati progetti a sostegno del rispetto dei diritti umani, della tutela delle minoranze e del pluralismo politico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eazione di un sistema economico di mercato ispirato al modello europeo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lotta alla povertà attraverso misure di sviluppo sostenibile a livello locale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83059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0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20">
                <a:moveTo>
                  <a:pt x="10800" y="417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20">
                <a:moveTo>
                  <a:pt x="8224" y="8234"/>
                </a:moveTo>
                <a:lnTo>
                  <a:pt x="12088" y="8234"/>
                </a:lnTo>
                <a:lnTo>
                  <a:pt x="12088" y="15232"/>
                </a:lnTo>
                <a:lnTo>
                  <a:pt x="13376" y="15232"/>
                </a:lnTo>
                <a:lnTo>
                  <a:pt x="13376" y="16154"/>
                </a:lnTo>
                <a:lnTo>
                  <a:pt x="8224" y="16154"/>
                </a:lnTo>
                <a:lnTo>
                  <a:pt x="8224" y="15232"/>
                </a:lnTo>
                <a:lnTo>
                  <a:pt x="9512" y="15232"/>
                </a:lnTo>
                <a:lnTo>
                  <a:pt x="9512" y="9139"/>
                </a:lnTo>
                <a:lnTo>
                  <a:pt x="8224" y="913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62B14-C78E-416A-8602-4C809A8AFCD0}" type="datetime1">
              <a:rPr lang="en-US"/>
              <a:t>07/31/26</a:t>
            </a:fld>
          </a:p>
        </p:txBody>
      </p:sp>
    </p:spTree>
  </p:cSld>
  <p:transition spd="slow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Unione di Serbia e Montenegr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po la caduta e l'arresto di Milosevic nel 2000, l'impegno dell'Unione Europea si è intensificato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'embargo è stato revocat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la Repubblica Federale Jugoslava ha potuto intraprendere il cammino verso il rafforzamento democratico e lo sviluppo di un'economia di mercato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sistenza dell’Unione Europea Unione di Serbia e Montenegro dando una dotazione finanziaria di quasi 3 miliardi di euro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venti comunitari concentrati essenzialmente nel settore del soccorso umanitario e della riabilitazione di strutture ed infrastrutture danneggiate dagli effetti della guerr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Unione Europea ha operato sempre più in termini politici, tentando di favorire lo sviluppo di un processo di democratizzazione e di un sistema mediatico indipendente dal Governo centrale con una dotazione finanziaria di oltre 6 milioni di euro e applicando una serie di sanzioni e restrizioni economiche al Paese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83059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0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20">
                <a:moveTo>
                  <a:pt x="10800" y="417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20">
                <a:moveTo>
                  <a:pt x="8224" y="8234"/>
                </a:moveTo>
                <a:lnTo>
                  <a:pt x="12088" y="8234"/>
                </a:lnTo>
                <a:lnTo>
                  <a:pt x="12088" y="15232"/>
                </a:lnTo>
                <a:lnTo>
                  <a:pt x="13376" y="15232"/>
                </a:lnTo>
                <a:lnTo>
                  <a:pt x="13376" y="16154"/>
                </a:lnTo>
                <a:lnTo>
                  <a:pt x="8224" y="16154"/>
                </a:lnTo>
                <a:lnTo>
                  <a:pt x="8224" y="15232"/>
                </a:lnTo>
                <a:lnTo>
                  <a:pt x="9512" y="15232"/>
                </a:lnTo>
                <a:lnTo>
                  <a:pt x="9512" y="9139"/>
                </a:lnTo>
                <a:lnTo>
                  <a:pt x="8224" y="913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B7E10-8221-4B84-95DA-F2E3BFFC6426}" type="datetime1">
              <a:rPr lang="en-US"/>
              <a:t>07/31/26</a:t>
            </a:fld>
          </a:p>
        </p:txBody>
      </p:sp>
    </p:spTree>
  </p:cSld>
  <p:transition spd="slow"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L’Unione Europea è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FAMIGLIA DI PAESI EUROPEI che si sono impegnati a lavorare insieme per la pace e la prosperità. Non è uno Stato che si propone di sostituire gli Stati esistenti, né è una semplice organizzazione per la cooperazione internazionale: è qualcosa di UN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 continente con MOLTE TRADIZIONI E LINGUE DIVERSE, ma anche con valori comuni da salvaguardare quali la DEMOCRAZIA, la LIBERTÀ e la GIUSTIZIA SOCIALE. Essa dà impulso alla cooperazione tra i popoli d’Europa, promuovendo l’UNI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À NELLA DIVERSITÀ e garantendo che le decisioni vengano prese il più possibile a contatto con i cittadi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69960" y="399888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86400" y="525780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815328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EEAE1-5870-4B42-A5B3-404F149EA8E9}" type="datetime1">
              <a:rPr lang="en-US"/>
              <a:t>07/31/26</a:t>
            </a:fld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rincipi su cui si basa l’Unione Europe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84940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ritti Uma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mocraz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o di Dirit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2AE6A-27A3-4954-8E46-620719B3F29D}" type="datetime1">
              <a:rPr lang="en-US"/>
              <a:t>07/31/26</a:t>
            </a:fld>
          </a:p>
        </p:txBody>
      </p:sp>
    </p:spTree>
  </p:cSld>
  <p:transition spd="slow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riteri di COPENAGH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5790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iterio POLITICO: istituzioni stabili che garantiscano la democrazia, la preminenza del diritto, i diritti umani ed il rispetto delle minoran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iterio ECONOMICO: valida economia di mercato che sia in grado di poter concorrere con un’economia che comprende 25 sta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iterio AMMINISTRATIVO: recepimento dell'"acquis" comunitario: quest’ultimo corrisponde alla piattaforma comune di diritti ed obblighi che vincolano l’insieme degli stati membri nel contesto dell’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24480" y="2057400"/>
            <a:ext cx="2581560" cy="38098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38FBB-377B-48F3-8648-DDDD5081B8E3}" type="datetime1">
              <a:rPr lang="en-US"/>
              <a:t>07/31/26</a:t>
            </a:fld>
          </a:p>
        </p:txBody>
      </p:sp>
    </p:spTree>
  </p:cSld>
  <p:transition spd="slow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esi Candidati a entrare prossimament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esi del 2007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Romania;_x000b_Bulga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;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esi che entreranno a data da destinarsi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Turch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;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hlinkClick r:id="rId3" action="ppaction://hlinksldjump"/>
              </a:rPr>
              <a:t>Croaz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;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hlinkClick r:id="rId4" action="ppaction://hlinksldjump"/>
              </a:rPr>
              <a:t>Ex Repubblica Jugoslava di Macedon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;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hlinkClick r:id="rId5" action="ppaction://hlinksldjump"/>
              </a:rPr>
              <a:t>Ucrain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5345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5335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6" action="ppaction://hlinksldjump"/>
          </p:cNvPr>
          <p:cNvSpPr/>
          <p:nvPr/>
        </p:nvSpPr>
        <p:spPr>
          <a:xfrm>
            <a:off x="4038480" y="6095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4CB1B-4761-4385-AF43-6F620A170C77}" type="datetime1">
              <a:rPr lang="en-US"/>
              <a:t>07/31/26</a:t>
            </a:fld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75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35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omania &amp; Bulg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Roman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necessità che la Romania continui sulla strada intrapresa e concluda le riforme negoziate, in particolare per quel che riguarda i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ttori della giustiz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egli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ffari intern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el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bien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 del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correnz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Il Consiglio europeo ha ribadito che, qualora la Romania non riuscisse a portare in porto tali riforme, si renderà necessario applicare delle "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usole di salvaguard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", che avrebbero come effetto il ritardo di un anno dell'adesione della Romania all'U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Bulgar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necessità che la Bulgaria continui sulla strada intrapresa e prosegua il suo percorso di piena attuazion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ll'acquis comunitari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 l’applicazione delle “clausole di salvaguardia” qualora non riuscisse a portare in porto tali riform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96080" y="990720"/>
            <a:ext cx="1016280" cy="6858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295280" y="1066680"/>
            <a:ext cx="1067040" cy="6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47181-75DB-4374-956B-BDE4CA71E964}" type="datetime1">
              <a:rPr lang="en-US"/>
              <a:t>07/31/26</a:t>
            </a:fld>
          </a:p>
        </p:txBody>
      </p:sp>
    </p:spTree>
  </p:cSld>
  <p:transition spd="slow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5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urch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mitare il potere dell’esercito nello stato; libertà sindacale non ancora garantita; abolire dei delitti d’onor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ollare la confessione principale e le discriminazioni contro le altre confessioni (soprattutto la protestante e la cattolica); pochi miglioramenti per quanto riguarda la libertà religiosa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fforzare il dialogo culturale. 'I cittadini dell'UE devono poter conoscere meglio la nuova Turchia e i cittadini turchi devono conoscere meglio i requisiti per l'adesione dell'UE'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quanto riguarda l’economia, la Turchia è un paese tradizionalmente legato a un’economia di mercato; negli ultimi anni la sua economia sta avendo grande crescita con una certa disparità tra est e ovest da dover attenu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0010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238880" y="914400"/>
            <a:ext cx="106704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40370-EB12-485A-8790-42E81D43D0C1}" type="datetime1">
              <a:rPr lang="en-US"/>
              <a:t>07/31/26</a:t>
            </a:fld>
          </a:p>
        </p:txBody>
      </p:sp>
    </p:spTree>
  </p:cSld>
  <p:transition spd="slow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roaz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rtanti progressi sono stati compiuti per il ritorno dei rifugiati;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spetta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criteri polit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essendo una democrazia stabile, garantendo lo Stato di diritto e rispettando i diritti dell'uomo;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arantisce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criteri econom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avendo una economia di mercato efficiente, con successi in termini di stabilità macroeconomica;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 ultimo, ha una struttura amministrativa capace di assumersi gli obblighi che le deriverebbero dall'entrare a far parte dell'Unione Europea quindi ha raggiunt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l’Acquis Comunitari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931080" y="836640"/>
            <a:ext cx="129528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7FCC3-431B-4944-9960-348806643947}" type="datetime1">
              <a:rPr lang="en-US"/>
              <a:t>07/31/26</a:t>
            </a:fld>
          </a:p>
        </p:txBody>
      </p:sp>
    </p:spTree>
  </p:cSld>
  <p:transition spd="slow"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7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x Repubblica Jugoslava di Macedoni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 stato il primo Paese della ex-Jugoslavia a sottoscrivere un Accordo di Stabilizzazione e Associazione con l'Unione Europea, che le ha conferito lo status di candidato potenziale all'ingresso nelle strutture e nelle Istituzioni comunitari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ziamento delle Istituzioni e del sistema democratico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ozione di riforme economich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fforzamento delle relazioni interetnich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tenimento della pace e della stabilità attraverso la normalizzazione delle relazioni interetniche e la tutela dei diritti uman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ziamento delle Istituzioni macedoni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riduzione della povertà e lo sviluppo del capitale umano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ozione della crescita del settore privato e la lotta alla disoccupazione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06704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210E9-DA49-4E6E-9B4E-EE4A5DB41B53}" type="datetime1">
              <a:rPr lang="en-US"/>
              <a:t>07/31/26</a:t>
            </a:fld>
          </a:p>
        </p:txBody>
      </p:sp>
    </p:spTree>
  </p:cSld>
  <p:transition spd="slow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50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9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5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</cp:lastModifiedBy>
  <dcterms:modified xsi:type="dcterms:W3CDTF">2006-03-23T18:15:0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