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3E1-4311-4D38-A9DE-8504ECD7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F12-B574-4D9A-B6B0-D7BE64F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7F2-A930-4D10-87D5-3BC0DB8D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C7A-7441-44B0-9166-E2B23FDE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111-B3CD-43F5-AC9A-842A8C6C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F94-E81A-4746-B271-715C4E2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D91-8945-4215-8D5B-B6F547D3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A31-DA13-457E-8D46-D870056E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0B9-84A3-4E75-8D60-4B55B69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D4A-4404-4029-8D26-1E00802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476-A649-4B38-B5A1-582E1FC0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CB6-ADCD-4CFD-8EC4-B205746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B41-C334-4F81-82A5-2DD50027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197000"/>
            <a:ext cx="8007480" cy="36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API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'ECONOM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SLAM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iche islamiche di finanz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692000" y="2060640"/>
            <a:ext cx="23749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060640"/>
            <a:ext cx="2232000" cy="59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78136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rofit accou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ccole somme di den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nza 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età del risparma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cust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81360"/>
            <a:ext cx="41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fit- sharing deposit accou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minima di depo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lievi solo period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età della 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positario partecipa utili e perdite 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iche di utilizz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cniche di Profit-loss-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cniche non profit- loss-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2852640"/>
            <a:ext cx="115236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86064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 BASE di ogni FINANZIAMENT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ISCHI SUPPORTATI da tutte e 3 le pa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63640" y="4724280"/>
            <a:ext cx="194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4797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4797360"/>
            <a:ext cx="19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37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537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373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PARMI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A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Za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icro-credito nell’ottica isl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1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SA sulla RICCHEZZA del 2,5% grava sui beni non p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21000"/>
            <a:ext cx="287280" cy="28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97000"/>
            <a:ext cx="36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DUCONO POV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692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I EFFETTUATI con CAUTELA e CON RISPETTO CULTURE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78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VENZA PACIFICA E BUONA 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9417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RIMENTI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 PROBLEMI DI CONVIV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AESI MEN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Middle East and North Africa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abia Saud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sgior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g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ior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o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i su cui si basa l’economia islami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gni decisione economica deve passare attraverso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ILTRO MOR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proibito l’interesse (Riba) nelle operazioni bancar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o della zakat (tassa coranic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O MO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incipi cor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780000" y="2637000"/>
            <a:ext cx="720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3933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700280"/>
            <a:ext cx="352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o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zione prezzi e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365720"/>
            <a:ext cx="36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t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entazioni di ricch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à priv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780000" y="278100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133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è vietata. L’uso deve essere conforme ai principi del co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3860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365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contratto non espressamente vietato dalla Sharia è val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niziativa economica priv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re equi sa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re prezzi ragionev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ntentarsi di un profitto nor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ata la mezza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zione di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funzionamento del mer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terminazione dei prezzi attraverso il merc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e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ntativo di aumentare artificialmente i pre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polio ed i prezzi control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j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sumi e i consum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284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so – reddito = permette  BENI PRI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tati BENI di L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645000"/>
            <a:ext cx="720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438560" y="4401000"/>
            <a:ext cx="719280" cy="358920"/>
          </a:xfrm>
          <a:custGeom>
            <a:avLst/>
            <a:gdLst>
              <a:gd name="textAreaLeft" fmla="*/ 239760 w 719280"/>
              <a:gd name="textAreaRight" fmla="*/ 616320 w 719280"/>
              <a:gd name="textAreaTop" fmla="*/ 20664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43700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istinguono 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4005360"/>
            <a:ext cx="288720" cy="1800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4221000"/>
            <a:ext cx="309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k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3141720"/>
            <a:ext cx="1800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292720" y="249192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134136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 a tu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sso pre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di durata ele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FINANZIARIO ISLA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ibizione della Ri.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00720" y="256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34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agamento di intere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479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c’è guadagno senza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8:22:39Z</dcterms:created>
  <dc:creator>Administrator</dc:creator>
  <dc:description/>
  <dc:language>en-US</dc:language>
  <cp:lastModifiedBy>lockuser</cp:lastModifiedBy>
  <dcterms:modified xsi:type="dcterms:W3CDTF">2006-03-27T07:13:15Z</dcterms:modified>
  <cp:revision>14</cp:revision>
  <dc:subject/>
  <dc:title>Diapositiva 1</dc:title>
</cp:coreProperties>
</file>