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EF0-49DC-47A9-B180-147BF043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C00C-8E36-4749-97C6-9760E82A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92D-13F8-4060-96DD-2229FBF3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990-B64C-41D4-8F36-9CB88807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43E-AA4C-48D4-8E27-B49194AD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5227-7068-4B90-97FF-D82689A7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F9E-9ED0-4BF0-A82E-3479795C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9CA4-96CD-44D7-9BB0-31508A56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7457-758E-4FDA-A667-AA10F954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25B2-7CEF-47DF-8ABA-1FE6E476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DAD-3BD9-4715-A825-A081632E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A61E-94C3-44E6-8ED4-C122292B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C841-F047-4B3A-9D35-C67BD43BC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1197000"/>
            <a:ext cx="8007480" cy="36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CAPIR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'ECONOMI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ISLAMIC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KAT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Zak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micro-credito nell’ottica isla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AESI MENA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( Middle East and North Africa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g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rabia Saud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isgiord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gi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iord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o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ni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ch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ipi su cui si basa l’economia islamic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gni decisione economica deve passare attraverso il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ILTRO MORA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È proibito l’interesse (Riba) nelle operazioni bancar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tilizzo della zakat (tassa coranica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RO MO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incipi cora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780000" y="2637000"/>
            <a:ext cx="72072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3933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59280" y="1700280"/>
            <a:ext cx="3529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enti 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os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oro d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zione prezzi eq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365720"/>
            <a:ext cx="360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enti 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it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ce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entazioni di ricche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età priv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780000" y="2781000"/>
            <a:ext cx="504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21337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è vietata. L’uso deve essere conforme ai principi del co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3860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4365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ni contratto non espressamente vietato dalla Sharia è vali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iniziativa economica priv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are equi sal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re prezzi ragionev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ntentarsi di un profitto nor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tata la mezza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zione di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funzionamento del merc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terminazione dei prezzi attraverso il merc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ieta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tentativo di aumentare artificialmente i prez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nopolio ed i prezzi controll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aj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nsumi e i consum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STEMA FINANZIARIO ISLA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ibizione della Ri.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ecniche islamiche di finanzi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08:22:39Z</dcterms:created>
  <dc:creator>Administrator</dc:creator>
  <dc:description/>
  <dc:language>en-US</dc:language>
  <cp:lastModifiedBy>Administrator</cp:lastModifiedBy>
  <dcterms:modified xsi:type="dcterms:W3CDTF">2006-03-23T10:15:56Z</dcterms:modified>
  <cp:revision>6</cp:revision>
  <dc:subject/>
  <dc:title>Diapositiva 1</dc:title>
</cp:coreProperties>
</file>