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E10C-88C7-4A8D-93F7-DCA0562B7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6D8A-4167-40A0-B06A-85AE8B7C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0E1D-EDBC-4E11-92F3-B0D33ACC1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200B-CC38-4004-844E-CD54CE68B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F38F-E651-453C-B7E4-6235DD1B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8769-C3FE-497D-ABDA-D2001460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1C1F-50CF-48B2-9E21-FA8F263E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C07A-4313-480C-93A6-2D39FE75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E04C-860F-4D05-BF83-9E69AC4C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3D19-F261-4A55-BBF1-38F61B0A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9B86-46E7-449A-B611-51BD3F46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FF13-A5DF-478C-B539-2D805DA5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9C38-CE62-4121-BCA9-E4215A1AE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THE%20CONSTITUTION%20OF%20THE%20REPUBLIC%20OF%20TURKEY.htm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Turkey%20-%20Amnesty%20International.htm" TargetMode="External"/><Relationship Id="rId3" Type="http://schemas.openxmlformats.org/officeDocument/2006/relationships/hyperlink" Target="file:///Turkey%20-%20Amnesty%20International%202005.htm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5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Italy%20World%20Audit%20Democracy%20Profile%20Italy.htm" TargetMode="External"/><Relationship Id="rId3" Type="http://schemas.openxmlformats.org/officeDocument/2006/relationships/hyperlink" Target="file:///Turkey%20World%20Audit%20Democracy%20Profile.htm" TargetMode="External"/><Relationship Id="rId4" Type="http://schemas.openxmlformats.org/officeDocument/2006/relationships/hyperlink" Target="file:///Turkey%20World%20Audit%20Democracy%20Profile.htm" TargetMode="Externa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Interview_to_Muratbene.doc" TargetMode="External"/><Relationship Id="rId3" Type="http://schemas.openxmlformats.org/officeDocument/2006/relationships/hyperlink" Target="file:///Articolo_Oran.doc" TargetMode="External"/><Relationship Id="rId4" Type="http://schemas.openxmlformats.org/officeDocument/2006/relationships/hyperlink" Target="file:///Articolo_Oran.doc" TargetMode="External"/><Relationship Id="rId5" Type="http://schemas.openxmlformats.org/officeDocument/2006/relationships/hyperlink" Target="file:///Articolo_Oran.doc" TargetMode="External"/><Relationship Id="rId6" Type="http://schemas.openxmlformats.org/officeDocument/2006/relationships/hyperlink" Target="file:///Parole%20Kaboglu.doc" TargetMode="External"/><Relationship Id="rId7" Type="http://schemas.openxmlformats.org/officeDocument/2006/relationships/hyperlink" Target="file:///Parole%20Kaboglu.doc" TargetMode="External"/><Relationship Id="rId8" Type="http://schemas.openxmlformats.org/officeDocument/2006/relationships/hyperlink" Target="file:///Parole%20Kaboglu.doc" TargetMode="External"/><Relationship Id="rId9" Type="http://schemas.openxmlformats.org/officeDocument/2006/relationships/hyperlink" Target="file:///Parole%20Kaboglu.doc" TargetMode="Externa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BBC%20News%20%20Europe%20%20Milestones%20of%20Europe%20Paris.htm" TargetMode="External"/><Relationship Id="rId2" Type="http://schemas.openxmlformats.org/officeDocument/2006/relationships/hyperlink" Target="file:///BBC%20News%20%20Europe%20%20Milestones%20of%20Europe%20Rome.htm" TargetMode="External"/><Relationship Id="rId3" Type="http://schemas.openxmlformats.org/officeDocument/2006/relationships/hyperlink" Target="file:///BBC%20News%20%20Europe%20%20Milestones%20of%20Europe%20Maastricht.htm" TargetMode="External"/><Relationship Id="rId4" Type="http://schemas.openxmlformats.org/officeDocument/2006/relationships/hyperlink" Target="file:///BBC%20News%20%20Europe%20%20Milestones%20of%20Europe%20Amsterdam.htm" TargetMode="External"/><Relationship Id="rId5" Type="http://schemas.openxmlformats.org/officeDocument/2006/relationships/hyperlink" Target="file:///BBC%20News%20%20Europe%20%20Milestones%20of%20Europe%20Niece.htm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Copenhagen%20Criteria.ht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477120" y="4419720"/>
            <a:ext cx="2464920" cy="2236680"/>
            <a:chOff x="6477120" y="4419720"/>
            <a:chExt cx="2464920" cy="2236680"/>
          </a:xfrm>
        </p:grpSpPr>
        <p:sp>
          <p:nvSpPr>
            <p:cNvPr id="42" name=""/>
            <p:cNvSpPr/>
            <p:nvPr/>
          </p:nvSpPr>
          <p:spPr>
            <a:xfrm>
              <a:off x="8153280" y="5638680"/>
              <a:ext cx="685440" cy="685800"/>
            </a:xfrm>
            <a:prstGeom prst="star5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772400" y="6248520"/>
              <a:ext cx="323280" cy="323640"/>
            </a:xfrm>
            <a:prstGeom prst="star5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772400" y="5638680"/>
              <a:ext cx="323280" cy="324000"/>
            </a:xfrm>
            <a:prstGeom prst="star5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610480" y="5257800"/>
              <a:ext cx="323640" cy="324000"/>
            </a:xfrm>
            <a:prstGeom prst="star5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086600" y="5867280"/>
              <a:ext cx="502920" cy="503280"/>
            </a:xfrm>
            <a:prstGeom prst="star5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924680" y="4952880"/>
              <a:ext cx="502920" cy="503280"/>
            </a:xfrm>
            <a:prstGeom prst="star5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391160" y="6477120"/>
              <a:ext cx="179280" cy="179280"/>
            </a:xfrm>
            <a:prstGeom prst="star5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458200" y="6477120"/>
              <a:ext cx="178920" cy="179280"/>
            </a:xfrm>
            <a:prstGeom prst="star5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81680" y="6324480"/>
              <a:ext cx="323640" cy="324000"/>
            </a:xfrm>
            <a:prstGeom prst="star5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534160" y="4724280"/>
              <a:ext cx="323640" cy="324000"/>
            </a:xfrm>
            <a:prstGeom prst="star5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477120" y="6477120"/>
              <a:ext cx="179280" cy="179280"/>
            </a:xfrm>
            <a:prstGeom prst="star5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762760" y="4419720"/>
              <a:ext cx="179280" cy="179280"/>
            </a:xfrm>
            <a:prstGeom prst="star5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228600" y="152640"/>
            <a:ext cx="2465280" cy="2238120"/>
            <a:chOff x="228600" y="152640"/>
            <a:chExt cx="2465280" cy="2238120"/>
          </a:xfrm>
        </p:grpSpPr>
        <p:sp>
          <p:nvSpPr>
            <p:cNvPr id="55" name=""/>
            <p:cNvSpPr/>
            <p:nvPr/>
          </p:nvSpPr>
          <p:spPr>
            <a:xfrm flipH="1" flipV="1">
              <a:off x="331200" y="484560"/>
              <a:ext cx="685800" cy="686160"/>
            </a:xfrm>
            <a:prstGeom prst="star5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1074600" y="236520"/>
              <a:ext cx="324000" cy="324000"/>
            </a:xfrm>
            <a:prstGeom prst="star5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flipV="1">
              <a:off x="1074600" y="846720"/>
              <a:ext cx="324000" cy="323640"/>
            </a:xfrm>
            <a:prstGeom prst="star5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236520" y="1228320"/>
              <a:ext cx="324000" cy="324000"/>
            </a:xfrm>
            <a:prstGeom prst="star5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>
              <a:off x="1581120" y="437760"/>
              <a:ext cx="503280" cy="503640"/>
            </a:xfrm>
            <a:prstGeom prst="star5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743040" y="1352880"/>
              <a:ext cx="503280" cy="503640"/>
            </a:xfrm>
            <a:prstGeom prst="star5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flipV="1">
              <a:off x="1600200" y="152640"/>
              <a:ext cx="179280" cy="179280"/>
            </a:xfrm>
            <a:prstGeom prst="star5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533520" y="152640"/>
              <a:ext cx="179280" cy="179280"/>
            </a:xfrm>
            <a:prstGeom prst="star5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 flipV="1">
              <a:off x="2065320" y="160200"/>
              <a:ext cx="324000" cy="323640"/>
            </a:xfrm>
            <a:prstGeom prst="star5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312480" y="1761840"/>
              <a:ext cx="323640" cy="323640"/>
            </a:xfrm>
            <a:prstGeom prst="star5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2514600" y="152640"/>
              <a:ext cx="179280" cy="179280"/>
            </a:xfrm>
            <a:prstGeom prst="star5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228600" y="2211480"/>
              <a:ext cx="179280" cy="179280"/>
            </a:xfrm>
            <a:prstGeom prst="star5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 txBox="1"/>
          <p:nvPr/>
        </p:nvSpPr>
        <p:spPr>
          <a:xfrm>
            <a:off x="1332000" y="1916280"/>
            <a:ext cx="633564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Comic Sans MS"/>
              </a:rPr>
              <a:t>2005</a:t>
            </a:r>
            <a:endParaRPr b="0" lang="en-US" sz="2400" spc="1" strike="noStrike">
              <a:ln w="0">
                <a:noFill/>
              </a:ln>
              <a:solidFill>
                <a:srgbClr val="ffcc00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Comic Sans MS"/>
              </a:rPr>
              <a:t>Conoscere l'Europa</a:t>
            </a:r>
            <a:endParaRPr b="0" lang="en-US" sz="2400" spc="1" strike="noStrike">
              <a:ln w="0">
                <a:noFill/>
              </a:ln>
              <a:solidFill>
                <a:srgbClr val="ffcc00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Comic Sans MS"/>
              </a:rPr>
              <a:t>Fare gli Europei</a:t>
            </a:r>
            <a:endParaRPr b="0" lang="en-US" sz="2400" spc="1" strike="noStrike">
              <a:ln w="0">
                <a:noFill/>
              </a:ln>
              <a:solidFill>
                <a:srgbClr val="ffcc00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6165720"/>
            <a:ext cx="5113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SIS MALIGNANI - Liceo Scientifico Einstein Cervignano del Friuli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lasse 4^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8486640" y="304920"/>
            <a:ext cx="141480" cy="14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0772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54200" cy="17240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74680" y="2157120"/>
            <a:ext cx="8594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5f13f"/>
                </a:solidFill>
                <a:latin typeface="Verdana"/>
              </a:rPr>
              <a:t>Septembre 1959: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la Turchia chiede di diventare  membro associato della Comunità Economica Europea (CEE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5f13f"/>
                </a:solidFill>
                <a:latin typeface="Verdana"/>
              </a:rPr>
              <a:t>Septembre 1963: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firma di un accordo (Accordo di Ankara),per portare la Turchia all interno di una Unione Doganale con la CEE e ad un eventuale ingresso come paese memb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5f13f"/>
                </a:solidFill>
                <a:latin typeface="Verdana"/>
              </a:rPr>
              <a:t>14 Aprile 1987: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la Turchia chiede di diventare membro effettivo della CE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5f13f"/>
                </a:solidFill>
                <a:latin typeface="Verdana"/>
              </a:rPr>
              <a:t>Dicembre  1999: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il Consiglio d’Europa riunito ad  Helsinki riconosce la Turchia come paese Europeo aspirante all’ingresso al pari di altri paesi candidat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5f13f"/>
                </a:solidFill>
                <a:latin typeface="Verdana"/>
              </a:rPr>
              <a:t>13 Dicembre 2002: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il Consiglio d’Europa riunito a  Copenhagen decide che, se la Turchia </a:t>
            </a:r>
            <a:r>
              <a:rPr b="0" lang="en-GB" sz="1800" spc="-1" strike="noStrike">
                <a:solidFill>
                  <a:srgbClr val="ffcc00"/>
                </a:solidFill>
                <a:latin typeface="Verdana"/>
              </a:rPr>
              <a:t>adempirà ai criteri politici di Copenhagen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, verrànno  avviati negoziati per l’ingresso in U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5f13f"/>
                </a:solidFill>
                <a:latin typeface="Verdana"/>
              </a:rPr>
              <a:t>17 Dicembre 2004: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il Consiglio d’Europa definisce le condizioni per l’apertura di negoziati di ingresso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5f13f"/>
                </a:solidFill>
                <a:latin typeface="Verdana"/>
              </a:rPr>
              <a:t>Ottobre 2005: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Il cConsiglio d’Europa  decide di aprire negoziati di accesso con la  Turchia.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03480" y="480960"/>
            <a:ext cx="2506680" cy="7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Comic Sans MS"/>
              </a:rPr>
              <a:t>La Turchia</a:t>
            </a:r>
            <a:endParaRPr b="0" lang="en-US" sz="2400" spc="1" strike="noStrike">
              <a:ln w="0">
                <a:noFill/>
              </a:ln>
              <a:solidFill>
                <a:srgbClr val="ffcc00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7" name=""/>
          <p:cNvSpPr/>
          <p:nvPr/>
        </p:nvSpPr>
        <p:spPr>
          <a:xfrm>
            <a:off x="2762280" y="1324080"/>
            <a:ext cx="56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Comic Sans MS"/>
              </a:rPr>
              <a:t>Passi verso l’ingresso in 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54200" cy="17240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762200" y="271440"/>
            <a:ext cx="711504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900" spc="-1" strike="noStrike">
                <a:solidFill>
                  <a:srgbClr val="f5f13f"/>
                </a:solidFill>
                <a:latin typeface="Verdana"/>
              </a:rPr>
              <a:t>Settembre 2001:</a:t>
            </a:r>
            <a:r>
              <a:rPr b="1" i="1" lang="en-GB" sz="19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GB" sz="1800" spc="-1" strike="noStrike">
                <a:solidFill>
                  <a:srgbClr val="ffffff"/>
                </a:solidFill>
                <a:latin typeface="Verdana"/>
              </a:rPr>
              <a:t>il Parlamento turco approva una   </a:t>
            </a:r>
            <a:r>
              <a:rPr b="1" i="1" lang="en-GB" sz="1800" spc="-1" strike="noStrike" u="sng">
                <a:solidFill>
                  <a:srgbClr val="ffffff"/>
                </a:solidFill>
                <a:uFillTx/>
                <a:latin typeface="Verdana"/>
              </a:rPr>
              <a:t>profonda riforma costituzionale</a:t>
            </a:r>
            <a:r>
              <a:rPr b="1" i="1" lang="en-GB" sz="1800" spc="-1" strike="noStrike">
                <a:solidFill>
                  <a:srgbClr val="ffffff"/>
                </a:solidFill>
                <a:latin typeface="Verdana"/>
              </a:rPr>
              <a:t> al fine di ottemperare ai criteri politici di  Copenhagen per l’ingresso in 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9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1" i="1" lang="en-GB" sz="1900" spc="-1" strike="noStrike">
                <a:solidFill>
                  <a:srgbClr val="ffcc00"/>
                </a:solidFill>
                <a:latin typeface="Verdana"/>
              </a:rPr>
              <a:t>Rispetto e protezione dei diritti dell’uomo e delle minoranz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8760" y="2378160"/>
            <a:ext cx="808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5f13f"/>
                </a:solidFill>
                <a:latin typeface="Verdana"/>
              </a:rPr>
              <a:t>ARTICOLO 12:</a:t>
            </a:r>
            <a:r>
              <a:rPr b="0" lang="en-GB" sz="1800" spc="-1" strike="noStrike">
                <a:solidFill>
                  <a:srgbClr val="f5f13f"/>
                </a:solidFill>
                <a:latin typeface="Verdana"/>
              </a:rPr>
              <a:t> Natura dei diritti e delle Libertà Fondamentali.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Ogni uomo possiede intrinseci </a:t>
            </a:r>
            <a:r>
              <a:rPr b="0" lang="en-GB" sz="1800" spc="-1" strike="noStrike">
                <a:solidFill>
                  <a:srgbClr val="f5f13f"/>
                </a:solidFill>
                <a:latin typeface="Verdana"/>
              </a:rPr>
              <a:t>fondamentali diritti e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ffcc00"/>
                </a:solidFill>
                <a:latin typeface="Verdana"/>
              </a:rPr>
              <a:t>libertà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che sono </a:t>
            </a:r>
            <a:r>
              <a:rPr b="0" lang="en-GB" sz="1800" spc="-1" strike="noStrike">
                <a:solidFill>
                  <a:srgbClr val="f5f13f"/>
                </a:solidFill>
                <a:latin typeface="Verdana"/>
              </a:rPr>
              <a:t>inviolabili ed inalienabili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 fondamentali diritti e libertà includono anche i  </a:t>
            </a:r>
            <a:r>
              <a:rPr b="0" lang="en-GB" sz="1800" spc="-1" strike="noStrike">
                <a:solidFill>
                  <a:srgbClr val="ffcc00"/>
                </a:solidFill>
                <a:latin typeface="Verdana"/>
              </a:rPr>
              <a:t>doveri e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f5f13f"/>
                </a:solidFill>
                <a:latin typeface="Verdana"/>
              </a:rPr>
              <a:t>responsabilità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dell’ individuo </a:t>
            </a:r>
            <a:r>
              <a:rPr b="0" lang="en-GB" sz="1800" spc="-1" strike="noStrike">
                <a:solidFill>
                  <a:srgbClr val="f5f13f"/>
                </a:solidFill>
                <a:latin typeface="Verdana"/>
              </a:rPr>
              <a:t>verso la società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GB" sz="1800" spc="-1" strike="noStrike">
                <a:solidFill>
                  <a:srgbClr val="ffcc00"/>
                </a:solidFill>
                <a:latin typeface="Verdana"/>
              </a:rPr>
              <a:t>la famiglia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, e </a:t>
            </a:r>
            <a:r>
              <a:rPr b="0" lang="en-GB" sz="1800" spc="-1" strike="noStrike">
                <a:solidFill>
                  <a:srgbClr val="f5f13f"/>
                </a:solidFill>
                <a:latin typeface="Verdana"/>
              </a:rPr>
              <a:t>gli altri individui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2120" y="1965240"/>
            <a:ext cx="56325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5f13f"/>
                </a:solidFill>
                <a:latin typeface="Verdana"/>
              </a:rPr>
              <a:t>Dalla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Verdana"/>
                <a:hlinkClick r:id="rId2"/>
              </a:rPr>
              <a:t>Costituzione Tu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2120" y="416412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5f13f"/>
                </a:solidFill>
                <a:latin typeface="Verdana"/>
              </a:rPr>
              <a:t>ARTICOLO 13:</a:t>
            </a:r>
            <a:r>
              <a:rPr b="0" lang="en-GB" sz="1800" spc="-1" strike="noStrike">
                <a:solidFill>
                  <a:srgbClr val="f5f13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5f13f"/>
                </a:solidFill>
                <a:latin typeface="Verdana"/>
              </a:rPr>
              <a:t>(modificato nell’ottobre 2001)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 diritti e le libertà fondamentali possono essere ristretti solo per legge e in conformità con le ragioni menzionate nei rilevanti articoli della Constituzione senza intaccarne l’ essenza. Queste restrizioni non potranno essere in conflitto con la lettera e lo spirito della Constituzione, le esigenze dell’ ordine  democratico della  società, la laicità della Repubblica e il principio di proporzionalità.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54200" cy="17240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92120" y="2044800"/>
            <a:ext cx="82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5f13f"/>
                </a:solidFill>
                <a:latin typeface="Verdana"/>
              </a:rPr>
              <a:t>ARTICOLO 14:</a:t>
            </a:r>
            <a:r>
              <a:rPr b="0" lang="en-GB" sz="1800" spc="-1" strike="noStrike">
                <a:solidFill>
                  <a:srgbClr val="f5f13f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f5f13f"/>
                </a:solidFill>
                <a:latin typeface="Verdana"/>
              </a:rPr>
              <a:t>Divieto di Abuso dei Diritti e delle Libertà  Fondamentali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5f13f"/>
                </a:solidFill>
                <a:latin typeface="Verdana"/>
              </a:rPr>
              <a:t>(modificato nell’ ottobre, 200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Verdana"/>
              </a:rPr>
              <a:t>Nessuno dei diritti e delle libertà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 espressi nella Constituzione verrà  </a:t>
            </a:r>
            <a:r>
              <a:rPr b="0" lang="en-GB" sz="1800" spc="-1" strike="noStrike">
                <a:solidFill>
                  <a:srgbClr val="ffcc00"/>
                </a:solidFill>
                <a:latin typeface="Verdana"/>
              </a:rPr>
              <a:t>esercitato con lo scopo di violare l’indivisibile integrità dello stato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inteso come territorio e nazione, e per </a:t>
            </a:r>
            <a:r>
              <a:rPr b="0" lang="en-GB" sz="1800" spc="-1" strike="noStrike">
                <a:solidFill>
                  <a:srgbClr val="ffcc00"/>
                </a:solidFill>
                <a:latin typeface="Verdana"/>
              </a:rPr>
              <a:t>mettere in pericolo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ffcc00"/>
                </a:solidFill>
                <a:latin typeface="Verdana"/>
              </a:rPr>
              <a:t>l’esistenza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dell’ordine laico e democratico della Repubblica di Turchia fondata sui diritti uman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2120" y="4307040"/>
            <a:ext cx="818532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5f13f"/>
                </a:solidFill>
                <a:latin typeface="Verdana"/>
              </a:rPr>
              <a:t>ARTICOLO 25:</a:t>
            </a:r>
            <a:r>
              <a:rPr b="0" lang="en-GB" sz="1800" spc="-1" strike="noStrike">
                <a:solidFill>
                  <a:srgbClr val="f5f13f"/>
                </a:solidFill>
                <a:latin typeface="Verdana"/>
              </a:rPr>
              <a:t> Libertà di Pensiero e di Opinione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cc00"/>
                </a:solidFill>
                <a:latin typeface="Verdana"/>
              </a:rPr>
              <a:t>Ognuno ha diritto alla libertà di pensiero e di pensiero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. Nessuno sarà costretto a rivelare I propri pensieri e opinioni per nessuna ragione oscopo, </a:t>
            </a:r>
            <a:r>
              <a:rPr b="0" lang="en-GB" sz="1800" spc="-1" strike="noStrike">
                <a:solidFill>
                  <a:srgbClr val="ffcc00"/>
                </a:solidFill>
                <a:latin typeface="Verdana"/>
              </a:rPr>
              <a:t>nè  alcuno verrà rimproverato o accusato a causa dei suoi pensieri e opinioni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54200" cy="17240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2727360" y="412920"/>
            <a:ext cx="5681520" cy="11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Comic Sans MS"/>
              </a:rPr>
              <a:t>Amnesty International</a:t>
            </a:r>
            <a:endParaRPr b="0" lang="en-US" sz="2400" spc="1" strike="noStrike">
              <a:ln w="0">
                <a:noFill/>
              </a:ln>
              <a:solidFill>
                <a:srgbClr val="ffcc00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Comic Sans MS"/>
              </a:rPr>
              <a:t>sui Diritti Umani in Turchia </a:t>
            </a:r>
            <a:endParaRPr b="0" lang="en-US" sz="2400" spc="1" strike="noStrike">
              <a:ln w="0">
                <a:noFill/>
              </a:ln>
              <a:solidFill>
                <a:srgbClr val="ffcc00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492120" y="1722600"/>
            <a:ext cx="5632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Comic Sans MS"/>
                <a:hlinkClick r:id="rId2"/>
              </a:rPr>
              <a:t>Rapporto del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2120" y="2328840"/>
            <a:ext cx="814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[…] l’applicazione delle </a:t>
            </a:r>
            <a:r>
              <a:rPr b="0" lang="en-US" sz="1800" spc="-1" strike="noStrike">
                <a:solidFill>
                  <a:srgbClr val="f5f13f"/>
                </a:solidFill>
                <a:latin typeface="Verdana"/>
              </a:rPr>
              <a:t>riform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si è rivelata </a:t>
            </a:r>
            <a:r>
              <a:rPr b="0" lang="en-US" sz="1800" spc="-1" strike="noStrike">
                <a:solidFill>
                  <a:srgbClr val="f5f13f"/>
                </a:solidFill>
                <a:latin typeface="Verdana"/>
              </a:rPr>
              <a:t>discontinua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ed è stato </a:t>
            </a:r>
            <a:r>
              <a:rPr b="0" lang="en-US" sz="1800" spc="-1" strike="noStrike">
                <a:solidFill>
                  <a:srgbClr val="ffcc00"/>
                </a:solidFill>
                <a:latin typeface="Verdana"/>
              </a:rPr>
              <a:t>difficile valutar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gli effettivi  </a:t>
            </a:r>
            <a:r>
              <a:rPr b="0" lang="en-US" sz="1800" spc="-1" strike="noStrike">
                <a:solidFill>
                  <a:srgbClr val="f5f13f"/>
                </a:solidFill>
                <a:latin typeface="Verdana"/>
              </a:rPr>
              <a:t>progressi ottenuti in materia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5f13f"/>
                </a:solidFill>
                <a:latin typeface="Verdana"/>
              </a:rPr>
              <a:t>di diritti uman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attribuibili alla nuova legislazi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2120" y="3541680"/>
            <a:ext cx="5632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Comic Sans MS"/>
                <a:hlinkClick r:id="rId3"/>
              </a:rPr>
              <a:t>Rapporto del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2120" y="4186080"/>
            <a:ext cx="81597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[…] La messa in atto di </a:t>
            </a:r>
            <a:r>
              <a:rPr b="0" lang="it-IT" sz="1800" spc="-1" strike="noStrike">
                <a:solidFill>
                  <a:srgbClr val="f5f13f"/>
                </a:solidFill>
                <a:latin typeface="Verdana"/>
              </a:rPr>
              <a:t>riforme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è stata  </a:t>
            </a:r>
            <a:r>
              <a:rPr b="0" lang="it-IT" sz="1800" spc="-1" strike="noStrike">
                <a:solidFill>
                  <a:srgbClr val="f5f13f"/>
                </a:solidFill>
                <a:latin typeface="Verdana"/>
              </a:rPr>
              <a:t>frammentaria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e nel diritto sono rimaste ampie  </a:t>
            </a:r>
            <a:r>
              <a:rPr b="0" lang="it-IT" sz="1800" spc="-1" strike="noStrike">
                <a:solidFill>
                  <a:srgbClr val="f5f13f"/>
                </a:solidFill>
                <a:latin typeface="Verdana"/>
              </a:rPr>
              <a:t>restriczioni dei diritti fondamentali.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[…] Chi ha cercato di esercitare il proprio diritto a manifestare pacificamente o a esprimere  </a:t>
            </a:r>
            <a:r>
              <a:rPr b="0" lang="it-IT" sz="1800" spc="-1" strike="noStrike">
                <a:solidFill>
                  <a:srgbClr val="f5f13f"/>
                </a:solidFill>
                <a:latin typeface="Verdana"/>
              </a:rPr>
              <a:t>dissenso su certi argomenti ha continuato a rischiare l’incriminazione penal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[…] Funzionari statali </a:t>
            </a:r>
            <a:r>
              <a:rPr b="0" lang="it-IT" sz="1800" spc="-1" strike="noStrike">
                <a:solidFill>
                  <a:srgbClr val="f5f13f"/>
                </a:solidFill>
                <a:latin typeface="Verdana"/>
              </a:rPr>
              <a:t>non sono stati in grado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di adottare misure adeguate </a:t>
            </a:r>
            <a:r>
              <a:rPr b="0" lang="it-IT" sz="1800" spc="-1" strike="noStrike">
                <a:solidFill>
                  <a:srgbClr val="f5f13f"/>
                </a:solidFill>
                <a:latin typeface="Verdana"/>
              </a:rPr>
              <a:t>per prevenire e punire la violenza sulle donn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54200" cy="17240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2727360" y="412920"/>
            <a:ext cx="5681520" cy="11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Comic Sans MS"/>
              </a:rPr>
              <a:t>Amnesty International</a:t>
            </a:r>
            <a:endParaRPr b="0" lang="en-US" sz="2400" spc="1" strike="noStrike">
              <a:ln w="0">
                <a:noFill/>
              </a:ln>
              <a:solidFill>
                <a:srgbClr val="ffcc00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Comic Sans MS"/>
              </a:rPr>
              <a:t>sui Diritti Umani in Turchia </a:t>
            </a:r>
            <a:endParaRPr b="0" lang="en-US" sz="2400" spc="1" strike="noStrike">
              <a:ln w="0">
                <a:noFill/>
              </a:ln>
              <a:solidFill>
                <a:srgbClr val="ffcc00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492120" y="2689200"/>
            <a:ext cx="8035920" cy="30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Cause ed </a:t>
            </a:r>
            <a:r>
              <a:rPr b="0" lang="it-IT" sz="1800" spc="-1" strike="noStrike">
                <a:solidFill>
                  <a:srgbClr val="ffcc00"/>
                </a:solidFill>
                <a:latin typeface="Verdana"/>
              </a:rPr>
              <a:t>inchieste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sono state aperte a carico di persone a causa delle loro opinioni o attività pacifiche. I processi sono stati istituiti</a:t>
            </a:r>
            <a:r>
              <a:rPr b="0" lang="it-IT" sz="1800" spc="-1" strike="noStrike">
                <a:solidFill>
                  <a:srgbClr val="ffcc00"/>
                </a:solidFill>
                <a:latin typeface="Verdana"/>
              </a:rPr>
              <a:t> ai sensi di vari articoli del  </a:t>
            </a:r>
            <a:r>
              <a:rPr b="0" lang="it-IT" sz="1800" spc="-1" strike="noStrike" u="sng">
                <a:solidFill>
                  <a:srgbClr val="ffcc00"/>
                </a:solidFill>
                <a:uFillTx/>
                <a:latin typeface="Verdana"/>
              </a:rPr>
              <a:t>Codice Penale Turco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(art.216 and 301*) che stabiliscono punizioni per “ingiuria” a vari organi dello stato o “incitamento all’ostilità e all’odio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*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ARTICOLO 216 approvato nel giugno 2004 (ex-Articolo 312): </a:t>
            </a:r>
            <a:r>
              <a:rPr b="0" lang="en-US" sz="1200" spc="-1" strike="noStrike">
                <a:solidFill>
                  <a:srgbClr val="ffcc00"/>
                </a:solidFill>
                <a:latin typeface="Verdana"/>
                <a:ea typeface="Times New Roman"/>
              </a:rPr>
              <a:t>Istigare parte della popolazione all’odio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 contro un’altra parte della popolazione in modi pericolosi per la sicurezza publica: imprigionamento fino a 3 ann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ARTICOLO 301 : Pubblica  </a:t>
            </a:r>
            <a:r>
              <a:rPr b="0" lang="en-GB" sz="1200" spc="-1" strike="noStrike">
                <a:solidFill>
                  <a:srgbClr val="ffcc00"/>
                </a:solidFill>
                <a:latin typeface="Verdana"/>
                <a:ea typeface="Times New Roman"/>
              </a:rPr>
              <a:t>denigrazione dello spirito e del carattere turco</a:t>
            </a:r>
            <a:r>
              <a:rPr b="0" lang="en-GB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, della Repubblica o del Parlamento della Turchia  saranno puniti con l’imprigionamento da sei mesi a tre anni.</a:t>
            </a:r>
            <a:br>
              <a:rPr sz="1200"/>
            </a:b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2120" y="1722600"/>
            <a:ext cx="765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Comic Sans MS"/>
              </a:rPr>
              <a:t>Libertà di Espressione e Difensori dei Diritti Uma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54200" cy="17240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2727360" y="412920"/>
            <a:ext cx="5681520" cy="11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Comic Sans MS"/>
              </a:rPr>
              <a:t>Amnesty International</a:t>
            </a:r>
            <a:endParaRPr b="0" lang="en-US" sz="2400" spc="1" strike="noStrike">
              <a:ln w="0">
                <a:noFill/>
              </a:ln>
              <a:solidFill>
                <a:srgbClr val="ffcc00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Comic Sans MS"/>
              </a:rPr>
              <a:t>sui Diritti Umani in Turchia </a:t>
            </a:r>
            <a:endParaRPr b="0" lang="en-US" sz="2400" spc="1" strike="noStrike">
              <a:ln w="0">
                <a:noFill/>
              </a:ln>
              <a:solidFill>
                <a:srgbClr val="ffcc00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492120" y="1722600"/>
            <a:ext cx="56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cc00"/>
                </a:solidFill>
                <a:uFillTx/>
                <a:latin typeface="Comic Sans MS"/>
              </a:rPr>
              <a:t>I diritti delle don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92120" y="2328840"/>
            <a:ext cx="81439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al punto di vista legale  </a:t>
            </a:r>
            <a:r>
              <a:rPr b="0" lang="en-US" sz="1800" spc="-1" strike="noStrike">
                <a:solidFill>
                  <a:srgbClr val="ffcc00"/>
                </a:solidFill>
                <a:latin typeface="Verdana"/>
              </a:rPr>
              <a:t>uomini e donne sono ugual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 2002 il Parlamento  ha fatto  importanti   </a:t>
            </a:r>
            <a:r>
              <a:rPr b="0" lang="en-US" sz="1800" spc="-1" strike="noStrike">
                <a:solidFill>
                  <a:srgbClr val="ffcc00"/>
                </a:solidFill>
                <a:latin typeface="Verdana"/>
              </a:rPr>
              <a:t>revisioni del codice civile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irc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Verdana"/>
              </a:rPr>
              <a:t>Diritto di famig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Verdana"/>
              </a:rPr>
              <a:t>Divorzio e adulte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Verdana"/>
              </a:rPr>
              <a:t>Pari opportunit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54200" cy="17240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2727360" y="412920"/>
            <a:ext cx="5681520" cy="11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Comic Sans MS"/>
              </a:rPr>
              <a:t>Amnesty International</a:t>
            </a:r>
            <a:endParaRPr b="0" lang="en-US" sz="2400" spc="1" strike="noStrike">
              <a:ln w="0">
                <a:noFill/>
              </a:ln>
              <a:solidFill>
                <a:srgbClr val="ffcc00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Comic Sans MS"/>
              </a:rPr>
              <a:t>sui Diritti Umani in Turchia </a:t>
            </a:r>
            <a:endParaRPr b="0" lang="en-US" sz="2400" spc="1" strike="noStrike">
              <a:ln w="0">
                <a:noFill/>
              </a:ln>
              <a:solidFill>
                <a:srgbClr val="ffcc00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492120" y="2328840"/>
            <a:ext cx="814392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cc00"/>
                </a:solidFill>
                <a:latin typeface="Verdana"/>
              </a:rPr>
              <a:t>La tradizione svolge un ruolo important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cc00"/>
                </a:solidFill>
                <a:latin typeface="Verdana"/>
              </a:rPr>
              <a:t>Una donna su tre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ha subito</a:t>
            </a:r>
            <a:r>
              <a:rPr b="0" lang="it-IT" sz="1800" spc="-1" strike="noStrike">
                <a:solidFill>
                  <a:srgbClr val="ffcc00"/>
                </a:solidFill>
                <a:latin typeface="Verdana"/>
              </a:rPr>
              <a:t> violenze fisiche in famiglia;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Le donne sono spesso </a:t>
            </a:r>
            <a:r>
              <a:rPr b="0" lang="it-IT" sz="1800" spc="-1" strike="noStrike">
                <a:solidFill>
                  <a:srgbClr val="ffcc00"/>
                </a:solidFill>
                <a:latin typeface="Verdana"/>
              </a:rPr>
              <a:t>costrette al matrimonio, picchiate, rapite o uccise nel  “delitto d’onor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 un sondaggio d’opinione a  Diyarbakir (2002) l’ 84% delle persone hanno detto che  that la giusta </a:t>
            </a:r>
            <a:r>
              <a:rPr b="0" lang="en-US" sz="1800" spc="-1" strike="noStrike">
                <a:solidFill>
                  <a:srgbClr val="ffcc00"/>
                </a:solidFill>
                <a:latin typeface="Verdana"/>
              </a:rPr>
              <a:t>punizion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er una donna che abbia avuto una relazione extraconiugale e  </a:t>
            </a:r>
            <a:r>
              <a:rPr b="0" lang="en-US" sz="1800" spc="-1" strike="noStrike">
                <a:solidFill>
                  <a:srgbClr val="ffcc00"/>
                </a:solidFill>
                <a:latin typeface="Verdana"/>
              </a:rPr>
              <a:t>la morte, l’abbandono o il ripudio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gni anno dozzine di donne vengono </a:t>
            </a:r>
            <a:r>
              <a:rPr b="0" lang="en-US" sz="1800" spc="-1" strike="noStrike">
                <a:solidFill>
                  <a:srgbClr val="ffcc00"/>
                </a:solidFill>
                <a:latin typeface="Verdana"/>
              </a:rPr>
              <a:t>uccis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er aver rivolto la parola ad uno aconosciuto e in </a:t>
            </a:r>
            <a:r>
              <a:rPr b="0" lang="en-US" sz="1800" spc="-1" strike="noStrike">
                <a:solidFill>
                  <a:srgbClr val="ffcc00"/>
                </a:solidFill>
                <a:latin typeface="Verdana"/>
              </a:rPr>
              <a:t>prigion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le donne  subiscono </a:t>
            </a:r>
            <a:r>
              <a:rPr b="0" lang="en-US" sz="1800" spc="-1" strike="noStrike">
                <a:solidFill>
                  <a:srgbClr val="ffcc00"/>
                </a:solidFill>
                <a:latin typeface="Verdana"/>
              </a:rPr>
              <a:t>abus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che non vengono puni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2120" y="1722600"/>
            <a:ext cx="56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cc00"/>
                </a:solidFill>
                <a:uFillTx/>
                <a:latin typeface="Comic Sans MS"/>
              </a:rPr>
              <a:t>I diritti delle don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54200" cy="17240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481640" y="169092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779560" y="588960"/>
            <a:ext cx="518652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Comic Sans MS"/>
              </a:rPr>
              <a:t>Dati e Numeri</a:t>
            </a:r>
            <a:endParaRPr b="0" lang="en-US" sz="2400" spc="1" strike="noStrike">
              <a:ln w="0">
                <a:noFill/>
              </a:ln>
              <a:solidFill>
                <a:srgbClr val="ffcc00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492120" y="1722600"/>
            <a:ext cx="56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cc00"/>
                </a:solidFill>
                <a:uFillTx/>
                <a:latin typeface="Comic Sans MS"/>
              </a:rPr>
              <a:t>I diritti delle don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66560" y="3513240"/>
          <a:ext cx="8223480" cy="847800"/>
        </p:xfrm>
        <a:graphic>
          <a:graphicData uri="http://schemas.openxmlformats.org/drawingml/2006/table">
            <a:tbl>
              <a:tblPr/>
              <a:tblGrid>
                <a:gridCol w="3837240"/>
                <a:gridCol w="2641680"/>
                <a:gridCol w="1744560"/>
              </a:tblGrid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Delitti d’onore e feriment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0 decedute 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 feri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Violenza  in Famiglia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7 decedut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4 feri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492120" y="2523960"/>
            <a:ext cx="797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Lo schema sotto riportato mostra i dati più recenti (2004) della Human Rights Association sulla violazione dei diritti delle don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54200" cy="17240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2779560" y="588960"/>
            <a:ext cx="518652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Comic Sans MS"/>
              </a:rPr>
              <a:t>Dati e Numeri</a:t>
            </a:r>
            <a:endParaRPr b="0" lang="en-US" sz="2400" spc="1" strike="noStrike">
              <a:ln w="0">
                <a:noFill/>
              </a:ln>
              <a:solidFill>
                <a:srgbClr val="ffcc00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322880" y="1544760"/>
          <a:ext cx="4562280" cy="2943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22880" y="1544760"/>
                    <a:ext cx="4562280" cy="29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206280" y="2711520"/>
          <a:ext cx="5553000" cy="33336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6280" y="2711520"/>
                    <a:ext cx="555300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492120" y="1722600"/>
            <a:ext cx="56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cc00"/>
                </a:solidFill>
                <a:uFillTx/>
                <a:latin typeface="Comic Sans MS"/>
              </a:rPr>
              <a:t>Libertà di espress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486320" y="4514760"/>
          <a:ext cx="4657680" cy="234324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486320" y="4514760"/>
                    <a:ext cx="465768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54200" cy="17240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 txBox="1"/>
          <p:nvPr/>
        </p:nvSpPr>
        <p:spPr>
          <a:xfrm>
            <a:off x="2779560" y="588960"/>
            <a:ext cx="518652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Comic Sans MS"/>
              </a:rPr>
              <a:t>Dati e Numeri</a:t>
            </a:r>
            <a:endParaRPr b="0" lang="en-US" sz="2400" spc="1" strike="noStrike">
              <a:ln w="0">
                <a:noFill/>
              </a:ln>
              <a:solidFill>
                <a:srgbClr val="ffcc00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492120" y="1722600"/>
            <a:ext cx="56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cc00"/>
                </a:solidFill>
                <a:uFillTx/>
                <a:latin typeface="Comic Sans MS"/>
              </a:rPr>
              <a:t>Libertà di Espress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-728640" y="2241720"/>
            <a:ext cx="6205680" cy="3213000"/>
            <a:chOff x="-728640" y="2241720"/>
            <a:chExt cx="6205680" cy="3213000"/>
          </a:xfrm>
        </p:grpSpPr>
        <p:sp>
          <p:nvSpPr>
            <p:cNvPr id="193" name=""/>
            <p:cNvSpPr/>
            <p:nvPr/>
          </p:nvSpPr>
          <p:spPr>
            <a:xfrm>
              <a:off x="358920" y="2599560"/>
              <a:ext cx="32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cc00"/>
                  </a:solidFill>
                  <a:latin typeface="Verdana"/>
                </a:rPr>
                <a:t>Application of Penal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4" name=""/>
            <p:cNvGraphicFramePr/>
            <p:nvPr/>
          </p:nvGraphicFramePr>
          <p:xfrm>
            <a:off x="-728640" y="2241720"/>
            <a:ext cx="6205680" cy="321300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19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-728640" y="2241720"/>
                      <a:ext cx="6205680" cy="321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6" name=""/>
          <p:cNvGrpSpPr/>
          <p:nvPr/>
        </p:nvGrpSpPr>
        <p:grpSpPr>
          <a:xfrm>
            <a:off x="4968720" y="2646360"/>
            <a:ext cx="3745080" cy="3735360"/>
            <a:chOff x="4968720" y="2646360"/>
            <a:chExt cx="3745080" cy="3735360"/>
          </a:xfrm>
        </p:grpSpPr>
        <p:graphicFrame>
          <p:nvGraphicFramePr>
            <p:cNvPr id="197" name=""/>
            <p:cNvGraphicFramePr/>
            <p:nvPr/>
          </p:nvGraphicFramePr>
          <p:xfrm>
            <a:off x="5111640" y="2963880"/>
            <a:ext cx="3270240" cy="3417840"/>
          </p:xfrm>
          <a:graphic>
            <a:graphicData uri="http://schemas.openxmlformats.org/presentationml/2006/ole">
              <p:oleObj progId="Excel.Sheet.12" r:id="rId4" spid="">
                <p:embed/>
                <p:pic>
                  <p:nvPicPr>
                    <p:cNvPr id="19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111640" y="2963880"/>
                      <a:ext cx="3270240" cy="341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9" name=""/>
            <p:cNvSpPr/>
            <p:nvPr/>
          </p:nvSpPr>
          <p:spPr>
            <a:xfrm>
              <a:off x="4968720" y="2646360"/>
              <a:ext cx="3745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Verdana"/>
                </a:rPr>
                <a:t>Persone attaccate da forze di sicurezza durante le manifestazioni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26920" y="5300640"/>
            <a:ext cx="723960" cy="649440"/>
          </a:xfrm>
          <a:prstGeom prst="star5">
            <a:avLst/>
          </a:prstGeom>
          <a:solidFill>
            <a:srgbClr val="ffcc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58920" y="4292640"/>
            <a:ext cx="723960" cy="649080"/>
          </a:xfrm>
          <a:prstGeom prst="star5">
            <a:avLst/>
          </a:prstGeom>
          <a:solidFill>
            <a:srgbClr val="ffcc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63640" y="3357720"/>
            <a:ext cx="719280" cy="645840"/>
          </a:xfrm>
          <a:prstGeom prst="star5">
            <a:avLst/>
          </a:prstGeom>
          <a:solidFill>
            <a:srgbClr val="ffcc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11280" y="2421000"/>
            <a:ext cx="719280" cy="646200"/>
          </a:xfrm>
          <a:prstGeom prst="star5">
            <a:avLst/>
          </a:prstGeom>
          <a:solidFill>
            <a:srgbClr val="ffcc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48000" y="256536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E: il contesto sto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43280" y="350028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E: l’allarg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40000" y="443700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a Turchia e l’Europa Un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63640" y="545616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I criteri di Copenhagen: rispetto dei diritti umani in Turch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258920" y="404640"/>
            <a:ext cx="64818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Comic Sans MS"/>
              </a:rPr>
              <a:t>L'Europa fino a dove</a:t>
            </a:r>
            <a:endParaRPr b="0" lang="en-US" sz="2400" spc="1" strike="noStrike">
              <a:ln w="0">
                <a:noFill/>
              </a:ln>
              <a:solidFill>
                <a:srgbClr val="ffcc00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341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Comic Sans MS"/>
              </a:rPr>
              <a:t>La storia e i problemi dell’allarg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54200" cy="17240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2779560" y="588960"/>
            <a:ext cx="518652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Comic Sans MS"/>
              </a:rPr>
              <a:t>Dati e Numeri</a:t>
            </a:r>
            <a:endParaRPr b="0" lang="en-US" sz="2400" spc="1" strike="noStrike">
              <a:ln w="0">
                <a:noFill/>
              </a:ln>
              <a:solidFill>
                <a:srgbClr val="ffcc00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0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81640" y="5027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60440" y="2774880"/>
          <a:ext cx="8223120" cy="2833920"/>
        </p:xfrm>
        <a:graphic>
          <a:graphicData uri="http://schemas.openxmlformats.org/drawingml/2006/table">
            <a:tbl>
              <a:tblPr/>
              <a:tblGrid>
                <a:gridCol w="4714920"/>
                <a:gridCol w="1168200"/>
                <a:gridCol w="1170000"/>
                <a:gridCol w="1170000"/>
              </a:tblGrid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Voc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Variazion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Esiti Itali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Esiti Turchi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orld Democracy Audit dato complessiv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-15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99cc00"/>
                          </a:solidFill>
                          <a:latin typeface="Verdana"/>
                        </a:rPr>
                        <a:t>2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6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Diritti Politici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-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99cc00"/>
                          </a:solidFill>
                          <a:latin typeface="Verdana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Diritti Civili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-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 u="sng">
                          <a:solidFill>
                            <a:srgbClr val="99cc00"/>
                          </a:solidFill>
                          <a:uFillTx/>
                          <a:latin typeface="Verdana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700" spc="-1" strike="noStrike" u="sng">
                          <a:solidFill>
                            <a:srgbClr val="00ccff"/>
                          </a:solidFill>
                          <a:uFillTx/>
                          <a:latin typeface="Verdana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Libertà di stampa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-1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99cc00"/>
                          </a:solidFill>
                          <a:uFillTx/>
                          <a:latin typeface="Verdana"/>
                        </a:rPr>
                        <a:t>4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ccff"/>
                          </a:solidFill>
                          <a:uFillTx/>
                          <a:latin typeface="Verdana"/>
                        </a:rPr>
                        <a:t>7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Corruzione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-1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99cc00"/>
                          </a:solidFill>
                          <a:latin typeface="Verdana"/>
                        </a:rPr>
                        <a:t>3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5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492120" y="1609560"/>
            <a:ext cx="802944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La tavola sotto riportata mostra i dati più recenti di  World Democracy Audit  circa  punteggi e classifiche attribuite a  </a:t>
            </a:r>
            <a:r>
              <a:rPr b="0" lang="it-IT" sz="1800" spc="-1" strike="noStrike" u="sng">
                <a:solidFill>
                  <a:srgbClr val="ffcc00"/>
                </a:solidFill>
                <a:uFillTx/>
                <a:latin typeface="Verdana"/>
                <a:hlinkClick r:id="rId2"/>
              </a:rPr>
              <a:t>Italia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e  </a:t>
            </a:r>
            <a:r>
              <a:rPr b="0" lang="it-IT" sz="1800" spc="-1" strike="noStrike" u="sng">
                <a:solidFill>
                  <a:srgbClr val="ffcc00"/>
                </a:solidFill>
                <a:uFillTx/>
                <a:latin typeface="Verdana"/>
                <a:hlinkClick r:id="rId3"/>
              </a:rPr>
              <a:t>Turkey </a:t>
            </a:r>
            <a:r>
              <a:rPr b="0" lang="it-IT" sz="1800" spc="-1" strike="noStrike" u="sng">
                <a:solidFill>
                  <a:srgbClr val="ffcc00"/>
                </a:solidFill>
                <a:uFillTx/>
                <a:latin typeface="Verdana"/>
                <a:hlinkClick r:id="rId4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Punteggi più bassi sono preferibil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54200" cy="17240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687240" y="2201760"/>
            <a:ext cx="67723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Uno studente del Collegio del Mondo Unito: </a:t>
            </a:r>
            <a:r>
              <a:rPr b="0" lang="it-IT" sz="1800" spc="-1" strike="noStrike" u="sng">
                <a:solidFill>
                  <a:srgbClr val="ffcc00"/>
                </a:solidFill>
                <a:uFillTx/>
                <a:latin typeface="Verdana"/>
                <a:hlinkClick r:id="rId2"/>
              </a:rPr>
              <a:t>Mur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3068640"/>
            <a:ext cx="5751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Uno scrittore: </a:t>
            </a:r>
            <a:r>
              <a:rPr b="0" lang="it-IT" sz="1800" spc="-1" strike="noStrike" u="sng">
                <a:solidFill>
                  <a:srgbClr val="ffcc00"/>
                </a:solidFill>
                <a:uFillTx/>
                <a:latin typeface="Verdana"/>
                <a:hlinkClick r:id="rId3"/>
              </a:rPr>
              <a:t>Orhan</a:t>
            </a:r>
            <a:r>
              <a:rPr b="0" lang="it-IT" sz="1800" spc="-1" strike="noStrike" u="sng">
                <a:solidFill>
                  <a:srgbClr val="ffcc00"/>
                </a:solidFill>
                <a:uFillTx/>
                <a:latin typeface="Verdana"/>
                <a:hlinkClick r:id="rId4"/>
              </a:rPr>
              <a:t> </a:t>
            </a:r>
            <a:r>
              <a:rPr b="0" lang="it-IT" sz="1800" spc="-1" strike="noStrike" u="sng">
                <a:solidFill>
                  <a:srgbClr val="ffcc00"/>
                </a:solidFill>
                <a:uFillTx/>
                <a:latin typeface="Verdana"/>
                <a:hlinkClick r:id="rId5"/>
              </a:rPr>
              <a:t>Pamu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46280" y="3959280"/>
            <a:ext cx="5317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Un costituzionalista: </a:t>
            </a:r>
            <a:r>
              <a:rPr b="0" lang="it-IT" sz="1800" spc="-1" strike="noStrike" u="sng">
                <a:solidFill>
                  <a:srgbClr val="ffcc00"/>
                </a:solidFill>
                <a:uFillTx/>
                <a:latin typeface="Verdana"/>
                <a:hlinkClick r:id="rId6"/>
              </a:rPr>
              <a:t>Ibrahim</a:t>
            </a:r>
            <a:r>
              <a:rPr b="0" lang="it-IT" sz="1800" spc="-1" strike="noStrike" u="sng">
                <a:solidFill>
                  <a:srgbClr val="ffcc00"/>
                </a:solidFill>
                <a:uFillTx/>
                <a:latin typeface="Verdana"/>
                <a:hlinkClick r:id="rId7"/>
              </a:rPr>
              <a:t> </a:t>
            </a:r>
            <a:r>
              <a:rPr b="0" lang="it-IT" sz="1800" spc="-1" strike="noStrike" u="sng">
                <a:solidFill>
                  <a:srgbClr val="ffcc00"/>
                </a:solidFill>
                <a:uFillTx/>
                <a:latin typeface="Verdana"/>
                <a:hlinkClick r:id="rId8"/>
              </a:rPr>
              <a:t>Kaboglu</a:t>
            </a:r>
            <a:r>
              <a:rPr b="0" lang="it-IT" sz="1800" spc="-1" strike="noStrike" u="sng">
                <a:solidFill>
                  <a:srgbClr val="ffcc00"/>
                </a:solidFill>
                <a:uFillTx/>
                <a:latin typeface="Verdana"/>
                <a:hlinkClick r:id="rId9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639880" y="538200"/>
            <a:ext cx="531360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Comic Sans MS"/>
              </a:rPr>
              <a:t>Voci dalla Turchia</a:t>
            </a:r>
            <a:endParaRPr b="0" lang="en-US" sz="2400" spc="1" strike="noStrike">
              <a:ln w="0">
                <a:noFill/>
              </a:ln>
              <a:solidFill>
                <a:srgbClr val="ffcc00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230040" y="151200"/>
            <a:ext cx="2465280" cy="2238120"/>
            <a:chOff x="230040" y="151200"/>
            <a:chExt cx="2465280" cy="2238120"/>
          </a:xfrm>
        </p:grpSpPr>
        <p:sp>
          <p:nvSpPr>
            <p:cNvPr id="81" name=""/>
            <p:cNvSpPr/>
            <p:nvPr/>
          </p:nvSpPr>
          <p:spPr>
            <a:xfrm flipH="1" flipV="1">
              <a:off x="332640" y="483120"/>
              <a:ext cx="685800" cy="686160"/>
            </a:xfrm>
            <a:prstGeom prst="star5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 flipV="1">
              <a:off x="1076040" y="235080"/>
              <a:ext cx="324000" cy="324000"/>
            </a:xfrm>
            <a:prstGeom prst="star5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flipV="1">
              <a:off x="1076040" y="845280"/>
              <a:ext cx="324000" cy="323640"/>
            </a:xfrm>
            <a:prstGeom prst="star5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237960" y="1226880"/>
              <a:ext cx="324000" cy="324000"/>
            </a:xfrm>
            <a:prstGeom prst="star5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 flipV="1">
              <a:off x="1582560" y="436320"/>
              <a:ext cx="503280" cy="503640"/>
            </a:xfrm>
            <a:prstGeom prst="star5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744480" y="1351440"/>
              <a:ext cx="503280" cy="503640"/>
            </a:xfrm>
            <a:prstGeom prst="star5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flipV="1">
              <a:off x="1601640" y="151200"/>
              <a:ext cx="179280" cy="179280"/>
            </a:xfrm>
            <a:prstGeom prst="star5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flipV="1">
              <a:off x="534960" y="151200"/>
              <a:ext cx="179280" cy="179280"/>
            </a:xfrm>
            <a:prstGeom prst="star5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2066760" y="158760"/>
              <a:ext cx="324000" cy="323640"/>
            </a:xfrm>
            <a:prstGeom prst="star5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313920" y="1760400"/>
              <a:ext cx="323640" cy="323640"/>
            </a:xfrm>
            <a:prstGeom prst="star5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2516040" y="151200"/>
              <a:ext cx="179280" cy="179280"/>
            </a:xfrm>
            <a:prstGeom prst="star5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230040" y="2210040"/>
              <a:ext cx="179280" cy="179280"/>
            </a:xfrm>
            <a:prstGeom prst="star5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 txBox="1"/>
          <p:nvPr/>
        </p:nvSpPr>
        <p:spPr>
          <a:xfrm>
            <a:off x="2516040" y="1090440"/>
            <a:ext cx="5776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Comic Sans MS"/>
              </a:rPr>
              <a:t>UE - Unione Europea</a:t>
            </a:r>
            <a:endParaRPr b="0" lang="en-US" sz="2400" spc="1" strike="noStrike">
              <a:ln w="0">
                <a:noFill/>
              </a:ln>
              <a:solidFill>
                <a:srgbClr val="ffcc00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4" name=""/>
          <p:cNvSpPr/>
          <p:nvPr/>
        </p:nvSpPr>
        <p:spPr>
          <a:xfrm>
            <a:off x="1219320" y="4403880"/>
            <a:ext cx="7277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Verdana"/>
              </a:rPr>
              <a:t>Lo scopo: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la UE fu fondata per </a:t>
            </a:r>
            <a:r>
              <a:rPr b="0" lang="en-GB" sz="2000" spc="-1" strike="noStrike">
                <a:solidFill>
                  <a:srgbClr val="ffcc00"/>
                </a:solidFill>
                <a:latin typeface="Verdana"/>
              </a:rPr>
              <a:t>garantire la pace,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dopo le due Guerre Mondiali. tra le nazioni europee vittoriose e sconfitte chiamate insieme a </a:t>
            </a:r>
            <a:r>
              <a:rPr b="0" lang="en-GB" sz="2000" spc="-1" strike="noStrike">
                <a:solidFill>
                  <a:srgbClr val="ffcc00"/>
                </a:solidFill>
                <a:latin typeface="Verdana"/>
              </a:rPr>
              <a:t>cooperare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all’interno di </a:t>
            </a:r>
            <a:r>
              <a:rPr b="0" lang="en-GB" sz="2000" spc="-1" strike="noStrike">
                <a:solidFill>
                  <a:srgbClr val="ffcc00"/>
                </a:solidFill>
                <a:latin typeface="Verdana"/>
              </a:rPr>
              <a:t>istituzioni condivise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95240" y="2533680"/>
            <a:ext cx="689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Una definizione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la UE è a l’unione di </a:t>
            </a:r>
            <a:r>
              <a:rPr b="0" lang="en-US" sz="2000" spc="-1" strike="noStrike">
                <a:solidFill>
                  <a:srgbClr val="ffcc00"/>
                </a:solidFill>
                <a:latin typeface="Verdana"/>
              </a:rPr>
              <a:t>stati sovrani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he si sono aggregati per la realizzazione di politiche comuni  in alcune aree cruciali (l’economia, l’ambiente, il lavor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230040" y="151200"/>
            <a:ext cx="2465280" cy="2238120"/>
            <a:chOff x="230040" y="151200"/>
            <a:chExt cx="2465280" cy="2238120"/>
          </a:xfrm>
        </p:grpSpPr>
        <p:sp>
          <p:nvSpPr>
            <p:cNvPr id="97" name=""/>
            <p:cNvSpPr/>
            <p:nvPr/>
          </p:nvSpPr>
          <p:spPr>
            <a:xfrm flipH="1" flipV="1">
              <a:off x="332640" y="483120"/>
              <a:ext cx="685800" cy="686160"/>
            </a:xfrm>
            <a:prstGeom prst="star5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1076040" y="235080"/>
              <a:ext cx="324000" cy="324000"/>
            </a:xfrm>
            <a:prstGeom prst="star5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1076040" y="845280"/>
              <a:ext cx="324000" cy="323640"/>
            </a:xfrm>
            <a:prstGeom prst="star5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237960" y="1226880"/>
              <a:ext cx="324000" cy="324000"/>
            </a:xfrm>
            <a:prstGeom prst="star5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1582560" y="436320"/>
              <a:ext cx="503280" cy="503640"/>
            </a:xfrm>
            <a:prstGeom prst="star5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744480" y="1351440"/>
              <a:ext cx="503280" cy="503640"/>
            </a:xfrm>
            <a:prstGeom prst="star5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flipV="1">
              <a:off x="1601640" y="151200"/>
              <a:ext cx="179280" cy="179280"/>
            </a:xfrm>
            <a:prstGeom prst="star5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534960" y="151200"/>
              <a:ext cx="179280" cy="179280"/>
            </a:xfrm>
            <a:prstGeom prst="star5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flipV="1">
              <a:off x="2066760" y="158760"/>
              <a:ext cx="324000" cy="323640"/>
            </a:xfrm>
            <a:prstGeom prst="star5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flipV="1">
              <a:off x="313920" y="1760400"/>
              <a:ext cx="323640" cy="323640"/>
            </a:xfrm>
            <a:prstGeom prst="star5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flipV="1">
              <a:off x="2516040" y="151200"/>
              <a:ext cx="179280" cy="179280"/>
            </a:xfrm>
            <a:prstGeom prst="star5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230040" y="2210040"/>
              <a:ext cx="179280" cy="179280"/>
            </a:xfrm>
            <a:prstGeom prst="star5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 txBox="1"/>
          <p:nvPr/>
        </p:nvSpPr>
        <p:spPr>
          <a:xfrm>
            <a:off x="2287440" y="1147680"/>
            <a:ext cx="5929560" cy="58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Comic Sans MS"/>
              </a:rPr>
              <a:t>Percorso Storico</a:t>
            </a:r>
            <a:endParaRPr b="0" lang="en-US" sz="2400" spc="1" strike="noStrike">
              <a:ln w="0">
                <a:noFill/>
              </a:ln>
              <a:solidFill>
                <a:srgbClr val="ffcc00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0" name=""/>
          <p:cNvSpPr/>
          <p:nvPr/>
        </p:nvSpPr>
        <p:spPr>
          <a:xfrm>
            <a:off x="1009800" y="2857680"/>
            <a:ext cx="7277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l primo passo verso l’integrazione europea fu fatto quando, nel </a:t>
            </a:r>
            <a:r>
              <a:rPr b="0" lang="en-GB" sz="2000" spc="-1" strike="noStrike">
                <a:solidFill>
                  <a:srgbClr val="ffcc00"/>
                </a:solidFill>
                <a:latin typeface="Verdana"/>
              </a:rPr>
              <a:t>1951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, sei paesi (</a:t>
            </a:r>
            <a:r>
              <a:rPr b="0" lang="en-GB" sz="2000" spc="-1" strike="noStrike">
                <a:solidFill>
                  <a:srgbClr val="ffcc00"/>
                </a:solidFill>
                <a:latin typeface="Verdana"/>
              </a:rPr>
              <a:t>Belgio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GB" sz="2000" spc="-1" strike="noStrike">
                <a:solidFill>
                  <a:srgbClr val="ffcc00"/>
                </a:solidFill>
                <a:latin typeface="Verdana"/>
              </a:rPr>
              <a:t>Repubblica Federale di Germania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GB" sz="2000" spc="-1" strike="noStrike">
                <a:solidFill>
                  <a:srgbClr val="ffcc00"/>
                </a:solidFill>
                <a:latin typeface="Verdana"/>
              </a:rPr>
              <a:t>Francia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GB" sz="2000" spc="-1" strike="noStrike">
                <a:solidFill>
                  <a:srgbClr val="ffcc00"/>
                </a:solidFill>
                <a:latin typeface="Verdana"/>
              </a:rPr>
              <a:t>Italia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GB" sz="2000" spc="-1" strike="noStrike">
                <a:solidFill>
                  <a:srgbClr val="ffcc00"/>
                </a:solidFill>
                <a:latin typeface="Verdana"/>
              </a:rPr>
              <a:t>Lussemburgo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lang="en-GB" sz="2000" spc="-1" strike="noStrike">
                <a:solidFill>
                  <a:srgbClr val="ffcc00"/>
                </a:solidFill>
                <a:latin typeface="Verdana"/>
              </a:rPr>
              <a:t>Olanda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) crearono il mercaro comune del carbone e dell’acciaio (ECSC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230040" y="151200"/>
            <a:ext cx="2465280" cy="2238120"/>
            <a:chOff x="230040" y="151200"/>
            <a:chExt cx="2465280" cy="2238120"/>
          </a:xfrm>
        </p:grpSpPr>
        <p:sp>
          <p:nvSpPr>
            <p:cNvPr id="112" name=""/>
            <p:cNvSpPr/>
            <p:nvPr/>
          </p:nvSpPr>
          <p:spPr>
            <a:xfrm flipH="1" flipV="1">
              <a:off x="332640" y="483120"/>
              <a:ext cx="685800" cy="686160"/>
            </a:xfrm>
            <a:prstGeom prst="star5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1076040" y="235080"/>
              <a:ext cx="324000" cy="324000"/>
            </a:xfrm>
            <a:prstGeom prst="star5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 flipV="1">
              <a:off x="1076040" y="845280"/>
              <a:ext cx="324000" cy="323640"/>
            </a:xfrm>
            <a:prstGeom prst="star5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237960" y="1226880"/>
              <a:ext cx="324000" cy="324000"/>
            </a:xfrm>
            <a:prstGeom prst="star5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1582560" y="436320"/>
              <a:ext cx="503280" cy="503640"/>
            </a:xfrm>
            <a:prstGeom prst="star5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744480" y="1351440"/>
              <a:ext cx="503280" cy="503640"/>
            </a:xfrm>
            <a:prstGeom prst="star5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1601640" y="151200"/>
              <a:ext cx="179280" cy="179280"/>
            </a:xfrm>
            <a:prstGeom prst="star5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534960" y="151200"/>
              <a:ext cx="179280" cy="179280"/>
            </a:xfrm>
            <a:prstGeom prst="star5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2066760" y="158760"/>
              <a:ext cx="324000" cy="323640"/>
            </a:xfrm>
            <a:prstGeom prst="star5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313920" y="1760400"/>
              <a:ext cx="323640" cy="323640"/>
            </a:xfrm>
            <a:prstGeom prst="star5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2516040" y="151200"/>
              <a:ext cx="179280" cy="179280"/>
            </a:xfrm>
            <a:prstGeom prst="star5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230040" y="2210040"/>
              <a:ext cx="179280" cy="179280"/>
            </a:xfrm>
            <a:prstGeom prst="star5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 txBox="1"/>
          <p:nvPr/>
        </p:nvSpPr>
        <p:spPr>
          <a:xfrm>
            <a:off x="2363760" y="1147680"/>
            <a:ext cx="5776920" cy="58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Comic Sans MS"/>
              </a:rPr>
              <a:t>Conferenze e Trattati</a:t>
            </a:r>
            <a:endParaRPr b="0" lang="en-US" sz="2400" spc="1" strike="noStrike">
              <a:ln w="0">
                <a:noFill/>
              </a:ln>
              <a:solidFill>
                <a:srgbClr val="ffcc00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81200" y="1884240"/>
          <a:ext cx="8020080" cy="4953240"/>
        </p:xfrm>
        <a:graphic>
          <a:graphicData uri="http://schemas.openxmlformats.org/drawingml/2006/table">
            <a:tbl>
              <a:tblPr/>
              <a:tblGrid>
                <a:gridCol w="900000"/>
                <a:gridCol w="1386000"/>
                <a:gridCol w="1238040"/>
                <a:gridCol w="4496040"/>
              </a:tblGrid>
              <a:tr h="33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cc00"/>
                          </a:solidFill>
                          <a:latin typeface="Verdana"/>
                          <a:ea typeface="Times New Roman"/>
                        </a:rPr>
                        <a:t>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cc00"/>
                          </a:solidFill>
                          <a:latin typeface="Verdana"/>
                          <a:ea typeface="Times New Roman"/>
                        </a:rPr>
                        <a:t>N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cc00"/>
                          </a:solidFill>
                          <a:latin typeface="Verdana"/>
                          <a:ea typeface="Times New Roman"/>
                        </a:rPr>
                        <a:t>Luo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cc00"/>
                          </a:solidFill>
                          <a:latin typeface="Verdana"/>
                          <a:ea typeface="Times New Roman"/>
                        </a:rPr>
                        <a:t>Sco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 u="sng">
                          <a:solidFill>
                            <a:srgbClr val="ffcc00"/>
                          </a:solidFill>
                          <a:uFillTx/>
                          <a:latin typeface="Verdana"/>
                          <a:ea typeface="Times New Roman"/>
                          <a:hlinkClick r:id="rId1"/>
                        </a:rPr>
                        <a:t>19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a CE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arig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cc00"/>
                          </a:solidFill>
                          <a:latin typeface="Verdana"/>
                          <a:ea typeface="Times New Roman"/>
                        </a:rPr>
                        <a:t>Ha garantito la pace</a:t>
                      </a: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nel continente dopo il  194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 u="sng">
                          <a:solidFill>
                            <a:srgbClr val="ffcc00"/>
                          </a:solidFill>
                          <a:uFillTx/>
                          <a:latin typeface="Verdana"/>
                          <a:ea typeface="Times New Roman"/>
                          <a:hlinkClick r:id="rId2"/>
                        </a:rPr>
                        <a:t>19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rattato di Ro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o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stituzione  della Comunità Economica Europea (CEE) e  la Comunità Economica per l’Energia Atomica (CEEA o Euratom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 u="sng">
                          <a:solidFill>
                            <a:srgbClr val="ffcc00"/>
                          </a:solidFill>
                          <a:uFillTx/>
                          <a:latin typeface="Verdana"/>
                          <a:ea typeface="Times New Roman"/>
                          <a:hlinkClick r:id="rId3"/>
                        </a:rPr>
                        <a:t>19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rattato  di Masstrc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aastric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a  CEE viene rinominata “Comunità Europea (CE)", e vengono introdotte nuove  forme di cooperazione tra gli Stati Membri: </a:t>
                      </a:r>
                      <a:r>
                        <a:rPr b="0" lang="en-GB" sz="1400" spc="-1" strike="noStrike">
                          <a:solidFill>
                            <a:srgbClr val="ffcc00"/>
                          </a:solidFill>
                          <a:latin typeface="Verdana"/>
                          <a:ea typeface="Times New Roman"/>
                        </a:rPr>
                        <a:t>unità monetaria</a:t>
                      </a: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(l’ Euro), la sicurezza intern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 u="sng">
                          <a:solidFill>
                            <a:srgbClr val="ffcc00"/>
                          </a:solidFill>
                          <a:uFillTx/>
                          <a:latin typeface="Verdana"/>
                          <a:ea typeface="Times New Roman"/>
                          <a:hlinkClick r:id="rId4"/>
                        </a:rPr>
                        <a:t>1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rattato di Amsterd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Amsterd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 apportato </a:t>
                      </a:r>
                      <a:r>
                        <a:rPr b="0" lang="en-GB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odifiche ed integrazioni</a:t>
                      </a: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ai trattati istitutivi di CEE e UE in vista dell’allargament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 u="sng">
                          <a:solidFill>
                            <a:srgbClr val="ffcc00"/>
                          </a:solidFill>
                          <a:uFillTx/>
                          <a:latin typeface="Verdana"/>
                          <a:ea typeface="Times New Roman"/>
                          <a:hlinkClick r:id="rId5"/>
                        </a:rPr>
                        <a:t>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rattato di Niz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iz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 apportato </a:t>
                      </a:r>
                      <a:r>
                        <a:rPr b="0" lang="en-GB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cambiamenti</a:t>
                      </a: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a livello di </a:t>
                      </a:r>
                      <a:r>
                        <a:rPr b="0" lang="en-GB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funzionamento delle istituzioni</a:t>
                      </a: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della 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stituzione Europ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o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l documento viene firmato da tutti I capi di Stato e di Governo dei Paesi Membri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816280" y="1397160"/>
            <a:ext cx="524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Comic Sans MS"/>
              </a:rPr>
              <a:t>Il “big bang”della 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7640" y="2236680"/>
            <a:ext cx="7459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Dal nucleo originario dei 6 paesi membri del </a:t>
            </a:r>
            <a:r>
              <a:rPr b="0" lang="it-IT" sz="2000" spc="-1" strike="noStrike">
                <a:solidFill>
                  <a:srgbClr val="ffcc00"/>
                </a:solidFill>
                <a:latin typeface="Verdana"/>
              </a:rPr>
              <a:t>1957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, nel </a:t>
            </a:r>
            <a:r>
              <a:rPr b="0" lang="it-IT" sz="2000" spc="-1" strike="noStrike">
                <a:solidFill>
                  <a:srgbClr val="ffcc00"/>
                </a:solidFill>
                <a:latin typeface="Verdana"/>
              </a:rPr>
              <a:t>2004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i Paesi Membri della EU deventano </a:t>
            </a:r>
            <a:r>
              <a:rPr b="0" lang="it-IT" sz="2000" spc="-1" strike="noStrike" u="sng">
                <a:solidFill>
                  <a:srgbClr val="ffcc00"/>
                </a:solidFill>
                <a:uFillTx/>
                <a:latin typeface="Verdana"/>
              </a:rPr>
              <a:t>25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 con una popolazione totale superiore a  470 milion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03480" y="658800"/>
            <a:ext cx="3546720" cy="58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Comic Sans MS"/>
              </a:rPr>
              <a:t>Allargamento</a:t>
            </a:r>
            <a:endParaRPr b="0" lang="en-US" sz="2400" spc="1" strike="noStrike">
              <a:ln w="0">
                <a:noFill/>
              </a:ln>
              <a:solidFill>
                <a:srgbClr val="ffcc00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541520" y="3425760"/>
          <a:ext cx="6208560" cy="3078360"/>
        </p:xfrm>
        <a:graphic>
          <a:graphicData uri="http://schemas.openxmlformats.org/drawingml/2006/table">
            <a:tbl>
              <a:tblPr/>
              <a:tblGrid>
                <a:gridCol w="1003320"/>
                <a:gridCol w="52052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cc00"/>
                          </a:solidFill>
                          <a:latin typeface="Verdana"/>
                          <a:ea typeface="Times New Roman"/>
                        </a:rPr>
                        <a:t>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cc00"/>
                          </a:solidFill>
                          <a:latin typeface="Verdana"/>
                          <a:ea typeface="Times New Roman"/>
                        </a:rPr>
                        <a:t>Pae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9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Belgio, Francia, Germania, Italia, Lussembourgo, Ola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9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animarca, Irlanda, Regno Uni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9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Gre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9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ortogallo, Spag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9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Austria, Finlandia, Svez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ipro, Repubblica Ceca, Estonia, Ungheria, Lettonia, Lituania, Malta, Polonia, Slovacchia, Slove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35080" y="260280"/>
            <a:ext cx="2487600" cy="16002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30360" y="2489040"/>
            <a:ext cx="769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Verdana"/>
              </a:rPr>
              <a:t>Lo scopo: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per </a:t>
            </a:r>
            <a:r>
              <a:rPr b="0" lang="en-GB" sz="2000" spc="-1" strike="noStrike">
                <a:solidFill>
                  <a:srgbClr val="ffcc00"/>
                </a:solidFill>
                <a:latin typeface="Verdana"/>
              </a:rPr>
              <a:t>assicurare pace e prosperità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sul continente europeo inglobando precedenti avvers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9160" y="3657600"/>
            <a:ext cx="7718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Verdana"/>
              </a:rPr>
              <a:t>I benefic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Verdana"/>
              </a:rPr>
              <a:t>-</a:t>
            </a: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accrescere le prospettive di pace, stabilità e prosperità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Verdana"/>
              </a:rPr>
              <a:t>-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favorire la crescita economica e creare occupazion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garantire una qualità di vita per i cittadin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adottare politiche comuni  per la protezione ambiental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combattere  crimine, droghe e immigrazione illega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favorire il dibattito culturale e lo scambio delle ide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afforzare il ruolo internazionale dell’Unione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35080" y="260280"/>
            <a:ext cx="2487600" cy="16002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134" name=""/>
          <p:cNvSpPr txBox="1"/>
          <p:nvPr/>
        </p:nvSpPr>
        <p:spPr>
          <a:xfrm>
            <a:off x="3003480" y="671400"/>
            <a:ext cx="3546720" cy="5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Comic Sans MS"/>
              </a:rPr>
              <a:t>Allargamento</a:t>
            </a:r>
            <a:endParaRPr b="0" lang="en-US" sz="2400" spc="1" strike="noStrike">
              <a:ln w="0">
                <a:noFill/>
              </a:ln>
              <a:solidFill>
                <a:srgbClr val="ffcc00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5" name=""/>
          <p:cNvSpPr/>
          <p:nvPr/>
        </p:nvSpPr>
        <p:spPr>
          <a:xfrm>
            <a:off x="2762280" y="1324080"/>
            <a:ext cx="56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Comic Sans MS"/>
              </a:rPr>
              <a:t>Perché l’Europa si allarga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19200" y="2470320"/>
            <a:ext cx="7718400" cy="25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cc00"/>
                </a:solidFill>
                <a:uFillTx/>
                <a:latin typeface="Verdana"/>
              </a:rPr>
              <a:t>I criteri di  Copenhagen</a:t>
            </a:r>
            <a:r>
              <a:rPr b="1" lang="en-GB" sz="20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en-GB" sz="2000" spc="-1" strike="noStrike" u="sng">
                <a:solidFill>
                  <a:srgbClr val="ffcc00"/>
                </a:solidFill>
                <a:uFillTx/>
                <a:latin typeface="Verdana"/>
                <a:hlinkClick r:id="rId1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un critero politico: i paesi candidati devono avere </a:t>
            </a:r>
            <a:r>
              <a:rPr b="0" lang="en-GB" sz="2000" spc="-1" strike="noStrike">
                <a:solidFill>
                  <a:srgbClr val="ffcc00"/>
                </a:solidFill>
                <a:latin typeface="Verdana"/>
              </a:rPr>
              <a:t>stabili instituzioni democratiche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un critero economico: i paesi candidati devono avere una </a:t>
            </a:r>
            <a:r>
              <a:rPr b="0" lang="en-GB" sz="2000" spc="-1" strike="noStrike">
                <a:solidFill>
                  <a:srgbClr val="ffcc00"/>
                </a:solidFill>
                <a:latin typeface="Verdana"/>
              </a:rPr>
              <a:t>funzionante economia di mercato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un criterio giuridico: i paesi candidati devono essere in grado di </a:t>
            </a:r>
            <a:r>
              <a:rPr b="0" lang="en-GB" sz="2000" spc="-1" strike="noStrike">
                <a:solidFill>
                  <a:srgbClr val="ffcc00"/>
                </a:solidFill>
                <a:latin typeface="Verdana"/>
              </a:rPr>
              <a:t>rispettare l’insieme delle regole e degli obiettivi comunitari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rispetto e protezione dei  </a:t>
            </a:r>
            <a:r>
              <a:rPr b="0" lang="en-GB" sz="2000" spc="-1" strike="noStrike">
                <a:solidFill>
                  <a:srgbClr val="ffcc00"/>
                </a:solidFill>
                <a:latin typeface="Verdana"/>
              </a:rPr>
              <a:t>diritti umani e delle minoranze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03480" y="671400"/>
            <a:ext cx="3546720" cy="5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Comic Sans MS"/>
              </a:rPr>
              <a:t>Allargamento</a:t>
            </a:r>
            <a:endParaRPr b="0" lang="en-US" sz="2400" spc="1" strike="noStrike">
              <a:ln w="0">
                <a:noFill/>
              </a:ln>
              <a:solidFill>
                <a:srgbClr val="ffcc00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1755720" y="1360440"/>
            <a:ext cx="667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Comic Sans MS"/>
              </a:rPr>
              <a:t>Condizioni di ades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35080" y="260280"/>
            <a:ext cx="2487600" cy="16002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65200" y="3056040"/>
            <a:ext cx="7718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L’ UE allargata a 25 paesi si espanderà ulteriormente nel </a:t>
            </a:r>
            <a:r>
              <a:rPr b="0" lang="en-GB" sz="2000" spc="-1" strike="noStrike">
                <a:solidFill>
                  <a:srgbClr val="ffcc00"/>
                </a:solidFill>
                <a:latin typeface="Verdana"/>
              </a:rPr>
              <a:t>2007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quando entreranno la  </a:t>
            </a:r>
            <a:r>
              <a:rPr b="0" lang="en-GB" sz="2000" spc="-1" strike="noStrike">
                <a:solidFill>
                  <a:srgbClr val="ffcc00"/>
                </a:solidFill>
                <a:latin typeface="Verdana"/>
              </a:rPr>
              <a:t>Bulgaria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e la  </a:t>
            </a:r>
            <a:r>
              <a:rPr b="0" lang="en-GB" sz="2000" spc="-1" strike="noStrike">
                <a:solidFill>
                  <a:srgbClr val="ffcc00"/>
                </a:solidFill>
                <a:latin typeface="Verdana"/>
              </a:rPr>
              <a:t>Romania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l Consiglio Europeo ha anche deciso nel  2004 di proseguire  con le trattative relative al possibile ingresso  di </a:t>
            </a:r>
            <a:r>
              <a:rPr b="0" lang="en-GB" sz="2000" spc="-1" strike="noStrike">
                <a:solidFill>
                  <a:srgbClr val="ffcc00"/>
                </a:solidFill>
                <a:latin typeface="Verdana"/>
              </a:rPr>
              <a:t>Croazia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e </a:t>
            </a:r>
            <a:r>
              <a:rPr b="0" lang="en-GB" sz="2000" spc="-1" strike="noStrike">
                <a:solidFill>
                  <a:srgbClr val="ffcc00"/>
                </a:solidFill>
                <a:latin typeface="Verdana"/>
              </a:rPr>
              <a:t>Turkey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35080" y="260280"/>
            <a:ext cx="2487600" cy="16002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142" name=""/>
          <p:cNvSpPr txBox="1"/>
          <p:nvPr/>
        </p:nvSpPr>
        <p:spPr>
          <a:xfrm>
            <a:off x="3003480" y="671400"/>
            <a:ext cx="3546720" cy="5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Comic Sans MS"/>
              </a:rPr>
              <a:t>Allargamento</a:t>
            </a:r>
            <a:endParaRPr b="0" lang="en-US" sz="2400" spc="1" strike="noStrike">
              <a:ln w="0">
                <a:noFill/>
              </a:ln>
              <a:solidFill>
                <a:srgbClr val="ffcc00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3" name=""/>
          <p:cNvSpPr/>
          <p:nvPr/>
        </p:nvSpPr>
        <p:spPr>
          <a:xfrm>
            <a:off x="2762280" y="1324080"/>
            <a:ext cx="56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Comic Sans MS"/>
              </a:rPr>
              <a:t>Quanto si potrà espandere l’E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2T12:30:45Z</dcterms:created>
  <dc:creator>simone</dc:creator>
  <dc:description/>
  <dc:language>en-US</dc:language>
  <cp:lastModifiedBy>Sandra</cp:lastModifiedBy>
  <dcterms:modified xsi:type="dcterms:W3CDTF">2006-03-19T15:13:40Z</dcterms:modified>
  <cp:revision>170</cp:revision>
  <dc:subject/>
  <dc:title>Presentazione di PowerPoint</dc:title>
</cp:coreProperties>
</file>