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3FE-CC97-43DF-9088-BD0B589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BA3-9F91-48CD-BDDB-6907668D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A62-C9DB-499C-9C1B-EB019984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249-85E0-4ECD-9FE5-79B760D5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DBC-B02B-4529-BF6D-67642E4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621-4FD8-4DAA-B689-79032E2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116-F64B-4353-8E94-1D28F3E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DD1-1EE0-40BB-B024-19A946F3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155-C597-4A77-A136-F802675C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A87-6795-4A6E-B905-AE4EE1C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07E-C4A2-4DB4-AC8D-3D74CB9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B2E-830C-4F1F-81F0-83BECA9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B59-FDDF-4A88-91D2-8CA489FF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2720" y="6021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.s. 2005 -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35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SIS MALIGN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iceo Scientifico A.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19640" y="2492280"/>
            <a:ext cx="22381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ASS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A*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*classe articolata: Inglese-tede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1405080" y="472428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’Europa fino a d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765000"/>
            <a:ext cx="914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oscere l'Europa - Fare gli europe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1267920"/>
            <a:ext cx="7417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i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was born to react to the destruction and conflict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ond world war, to check the world pow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or construction with the first subjects as coal, steel, i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 with the objective to create a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rket where there is a free exchange of peo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odities, services and capit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407664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The European Union or the EU is an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intergovernmental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  un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25 European 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countries, committed to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working together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for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pe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and prosperity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The European Union's activities cover all areas of public polic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health and economic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policy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foreign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2000" spc="-1" strike="noStrike" u="sng">
                <a:solidFill>
                  <a:srgbClr val="ffffff"/>
                </a:solidFill>
                <a:uFillTx/>
                <a:latin typeface="Arial"/>
              </a:rPr>
              <a:t>affairs and defence</a:t>
            </a:r>
            <a:r>
              <a:rPr b="1" lang="en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404640"/>
            <a:ext cx="676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im &amp; Defi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404640"/>
            <a:ext cx="835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historical background trough the most important treati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34136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Treaty of Paris</a:t>
            </a:r>
            <a:r>
              <a:rPr b="1" lang="en" sz="18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establishing 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uropean Coal and Steel Community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signed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on 18 April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1951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The Treaty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of Rome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establishing 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uropean Economic Community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EC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), which was signed - along with the Euratom Treaty  -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25 March 1957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, and entered into force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1 January 1958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The Treaty of Maastricht signed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7 February 1992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It changed the name of 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uropean Economic Community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to simply "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uropean Community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" ". It led to the creation of the European and monetary u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Treaty of Amsterdam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, signed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2 October 1997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Its purpose was to simplify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decision making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in addition to further integrating the Common Foreign and Security Policy concep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Treaty of Nice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, signed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26 February 2001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It dealt mostly with reforming the institutions so that the union could function efficently after its enlargement to 25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European Constitution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 was signed on 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29 October 2004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 It seeks to consolidate, simplify and replace the existing set of overlapping treaties. And is due to come into force on</a:t>
            </a:r>
            <a:r>
              <a:rPr b="1" lang="en" sz="1800" spc="-1" strike="noStrike" u="sng">
                <a:solidFill>
                  <a:srgbClr val="ffffff"/>
                </a:solidFill>
                <a:uFillTx/>
                <a:latin typeface="Arial"/>
              </a:rPr>
              <a:t> 1 November 2006</a:t>
            </a: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25 present countrie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France, (West) Germany, Italy, "Benelux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", which are the founding countries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ed the Treaty of Paris in April 1951, taking effect in July 195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73: Acts of Accession of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nmark, Ireland, Norway and the United Kingdo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 signed in Brussels on 22 January 1972. (Norway failed to ratify and did not join the EU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81: Act of Accession of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Gree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signed in Athens on 28 May 19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86: Acts of Accession of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pain and Portuga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signed in Madrid and Lisbon on 12 June 198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5: Acts of Accession of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ustria, Sweden, Finland and Norw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signed in Corfu on 24 June 199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rway again failed to ratify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4: Treaty of Accession 2003 signed in Athens on 16 April 2003 (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yprus, Czech  Republic, Estonia, Hungary, Lithuania, Latvia, Malta, Poland, Slovenia, Slovak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7 : Treaty of Accession 2005 signed in Luxembourg. Treaty not yet ratified by all Member St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404640"/>
            <a:ext cx="835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largeme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1:40:57Z</dcterms:created>
  <dc:creator>Liceo Scientifico</dc:creator>
  <dc:description/>
  <dc:language>en-US</dc:language>
  <cp:lastModifiedBy>Liceo Scientifico</cp:lastModifiedBy>
  <dcterms:modified xsi:type="dcterms:W3CDTF">2006-02-24T12:11:30Z</dcterms:modified>
  <cp:revision>16</cp:revision>
  <dc:subject/>
  <dc:title> UE </dc:title>
</cp:coreProperties>
</file>