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957-D6F0-4C23-B6E9-5BB40ACF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788-47A2-4EE4-AF2A-7E42729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02F-4199-461F-A8F8-6C0D4F52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4C1-EAAB-47BE-9531-EB401ACE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91D3-F05A-4E84-84AE-9F31FE0C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07C9B-07C3-444C-8911-0F423F42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E1438-9131-4D18-979C-46FC6DB5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CEA6-452A-4635-BEED-DB6B599D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7FC41-54A2-4572-9D5D-3B43178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2A2E5-11C2-402B-A098-15BDFBD4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23A29-25E2-4F3D-82B6-87C7382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B8D-1F42-4043-BBF4-2664AC5F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40D6C-F026-4722-9CA9-45FC07F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597A9-0CA6-43E7-B692-FAD31F7B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7074-5565-48AB-8D90-D1D26CD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75A44-D2B9-4500-A0BE-A269D558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A96F8-3A73-46BD-8659-0F0988D9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9B8-5272-4FEB-98FC-D7A59593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96F-F573-4193-A81F-2F5817B8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C2B-2B6B-4E25-816F-C255881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637-BEAD-487B-97C9-988A640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44B-26F5-4B41-BF83-11E7833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BDC-0513-4B2D-91E8-D2E96F2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C4D-7097-407E-821B-2C68EAD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6E57-83FC-421D-8D32-E59F2586A4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909-F74C-4B7F-99B0-40581D108A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5400" spc="-1" strike="noStrike">
                <a:solidFill>
                  <a:srgbClr val="f2ec00"/>
                </a:solidFill>
                <a:latin typeface="Tahoma"/>
              </a:rPr>
              <a:t>DIE T</a:t>
            </a:r>
            <a:r>
              <a:rPr b="0" lang="en-US" sz="5400" spc="-1" strike="noStrike">
                <a:solidFill>
                  <a:srgbClr val="f2ec00"/>
                </a:solidFill>
                <a:latin typeface="Tahoma"/>
              </a:rPr>
              <a:t>Ű</a:t>
            </a:r>
            <a:r>
              <a:rPr b="0" lang="it-IT" sz="5400" spc="-1" strike="noStrike">
                <a:solidFill>
                  <a:srgbClr val="f2ec00"/>
                </a:solidFill>
                <a:latin typeface="Tahoma"/>
              </a:rPr>
              <a:t>RKEI IN DER EU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700280"/>
          <a:ext cx="3673440" cy="24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367344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067280" y="3573360"/>
            <a:ext cx="48243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Ű</a:t>
            </a:r>
            <a:r>
              <a:rPr b="0" lang="it-IT" sz="6000" spc="-1" strike="noStrike">
                <a:solidFill>
                  <a:srgbClr val="ffff00"/>
                </a:solidFill>
                <a:latin typeface="Tahoma"/>
              </a:rPr>
              <a:t>RKE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0280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2ec00"/>
                </a:solidFill>
                <a:latin typeface="Tahoma"/>
              </a:rPr>
              <a:t>T</a:t>
            </a:r>
            <a:r>
              <a:rPr b="0" lang="en-US" sz="4000" spc="-1" strike="noStrike">
                <a:solidFill>
                  <a:srgbClr val="f2ec00"/>
                </a:solidFill>
                <a:latin typeface="Tahoma"/>
                <a:ea typeface="Tahoma"/>
              </a:rPr>
              <a:t>Ű</a:t>
            </a:r>
            <a:r>
              <a:rPr b="0" lang="it-IT" sz="4000" spc="-1" strike="noStrike">
                <a:solidFill>
                  <a:srgbClr val="f2ec00"/>
                </a:solidFill>
                <a:latin typeface="Tahoma"/>
              </a:rPr>
              <a:t>RKEI ALS BEITRITTSKANDID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7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Seit dem 4. Oktober 2005 f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ű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hrt  die 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ű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rkei ergebnisoffene Beitrittsverhandlungen mit der EU , diese 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ő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nnten laut Expertenmeinung bis zu 15 Jahren andauern. Der Beitritt ist in der EU sehr umstritte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2ec00"/>
                </a:solidFill>
                <a:latin typeface="Tahoma"/>
              </a:rPr>
              <a:t>Die T</a:t>
            </a:r>
            <a:r>
              <a:rPr b="1" lang="en-US" sz="4800" spc="-1" strike="noStrike">
                <a:solidFill>
                  <a:srgbClr val="f2ec00"/>
                </a:solidFill>
                <a:latin typeface="Tahoma"/>
                <a:ea typeface="Tahoma"/>
              </a:rPr>
              <a:t>ü</a:t>
            </a:r>
            <a:r>
              <a:rPr b="1" lang="it-IT" sz="4800" spc="-1" strike="noStrike">
                <a:solidFill>
                  <a:srgbClr val="f2ec00"/>
                </a:solidFill>
                <a:latin typeface="Tahoma"/>
              </a:rPr>
              <a:t>rkei: “In oder aus der Europ</a:t>
            </a:r>
            <a:r>
              <a:rPr b="1" lang="en-US" sz="4800" spc="-1" strike="noStrike">
                <a:solidFill>
                  <a:srgbClr val="f2ec00"/>
                </a:solidFill>
                <a:latin typeface="Tahoma"/>
                <a:ea typeface="Tahoma"/>
              </a:rPr>
              <a:t>ä</a:t>
            </a:r>
            <a:r>
              <a:rPr b="1" lang="it-IT" sz="4800" spc="-1" strike="noStrike">
                <a:solidFill>
                  <a:srgbClr val="f2ec00"/>
                </a:solidFill>
                <a:latin typeface="Tahoma"/>
              </a:rPr>
              <a:t>ischen Union?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Tahoma"/>
              </a:rPr>
              <a:t>in Deutschland 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ä</a:t>
            </a:r>
            <a:r>
              <a:rPr b="0" lang="it-IT" sz="4800" spc="-1" strike="noStrike">
                <a:solidFill>
                  <a:srgbClr val="ffffff"/>
                </a:solidFill>
                <a:latin typeface="Tahoma"/>
              </a:rPr>
              <a:t>uft z.Z. ein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Tahoma"/>
              </a:rPr>
              <a:t>politisch hoch kontrovers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Tahoma"/>
              </a:rPr>
              <a:t>Debatte dar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it-IT" sz="4800" spc="-1" strike="noStrike">
                <a:solidFill>
                  <a:srgbClr val="ffffff"/>
                </a:solidFill>
                <a:latin typeface="Tahoma"/>
              </a:rPr>
              <a:t>be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ec00"/>
                </a:solidFill>
                <a:latin typeface="Tahoma"/>
              </a:rPr>
              <a:t>P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Verbreiterung am Mittelm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Wirtschafts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usdehnung des Binnenmark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Kontakt mit Islam (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kei als B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k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ato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ec00"/>
                </a:solidFill>
                <a:latin typeface="Tahoma"/>
              </a:rPr>
              <a:t>KONTR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ndere Lebensarten von Islam stark beeinflus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rmes Land (wirtschaftliche Proble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issachtet Menschenrech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npassungskos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igrationsproble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9:32:03Z</dcterms:created>
  <dc:creator>pc_03</dc:creator>
  <dc:description/>
  <dc:language>en-US</dc:language>
  <cp:lastModifiedBy>pc_03</cp:lastModifiedBy>
  <dcterms:modified xsi:type="dcterms:W3CDTF">2006-02-18T12:04:21Z</dcterms:modified>
  <cp:revision>10</cp:revision>
  <dc:subject/>
  <dc:title>TŰRKEI IN DER EU</dc:title>
</cp:coreProperties>
</file>