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111BB-C576-41F1-8E96-448438D7F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CCBE6-2191-4C5C-983D-B6836C908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8C113-49F8-4D04-ACF5-945FD0272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56734-4E86-4B6A-BE49-4177CCBBC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A91A1-F6E6-44BD-9676-0E0A4342A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DAA0C-03D1-4038-93A0-F09FD5CF7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8EA7F-2144-405C-AD78-B1E0A2C44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7FC26-4103-4223-97ED-BE2323A1E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A606C-D9A3-40F7-804C-9D6BA2CE8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EE24C-91BE-4D8D-A571-F6FE5321D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AE607-058D-4D6D-9B75-F8D283CCE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05E46-7267-439D-B916-8FB9A1E90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35D4D-CB01-408C-9CAD-75C208193A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612720" y="0"/>
            <a:ext cx="10476000" cy="69962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10920" y="2852640"/>
            <a:ext cx="453564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ffff"/>
                </a:solidFill>
                <a:latin typeface="Arial"/>
              </a:rPr>
              <a:t>KRITERIEN F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Ü</a:t>
            </a:r>
            <a:r>
              <a:rPr b="0" lang="it-IT" sz="3600" spc="-1" strike="noStrike">
                <a:solidFill>
                  <a:srgbClr val="ffffff"/>
                </a:solidFill>
                <a:latin typeface="Arial"/>
              </a:rPr>
              <a:t>R DEN EINTRITT IN DIE E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00"/>
                </a:solidFill>
                <a:latin typeface="Arial"/>
              </a:rPr>
              <a:t>Kopenhagen Kriteri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0920" y="1557000"/>
            <a:ext cx="84247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00"/>
                </a:solidFill>
                <a:latin typeface="Arial"/>
              </a:rPr>
              <a:t>Stabilit</a:t>
            </a:r>
            <a:r>
              <a:rPr b="0" lang="de-DE" sz="3200" spc="-1" strike="noStrike">
                <a:solidFill>
                  <a:srgbClr val="ffff00"/>
                </a:solidFill>
                <a:latin typeface="Arial"/>
                <a:ea typeface="Arial"/>
              </a:rPr>
              <a:t>ä</a:t>
            </a:r>
            <a:r>
              <a:rPr b="0" lang="de-DE" sz="3200" spc="-1" strike="noStrike">
                <a:solidFill>
                  <a:srgbClr val="ffff00"/>
                </a:solidFill>
                <a:latin typeface="Arial"/>
              </a:rPr>
              <a:t>t der Institution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24000" y="3141720"/>
            <a:ext cx="822960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5013360"/>
            <a:ext cx="8229600" cy="11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00"/>
                </a:solidFill>
                <a:latin typeface="Arial"/>
              </a:rPr>
              <a:t>Ausserdem sollen die Gesetze der EU in alle L</a:t>
            </a:r>
            <a:r>
              <a:rPr b="0" lang="de-DE" sz="3200" spc="-1" strike="noStrike">
                <a:solidFill>
                  <a:srgbClr val="ffff00"/>
                </a:solidFill>
                <a:latin typeface="Arial"/>
                <a:ea typeface="Arial"/>
              </a:rPr>
              <a:t>ä</a:t>
            </a:r>
            <a:r>
              <a:rPr b="0" lang="de-DE" sz="3200" spc="-1" strike="noStrike">
                <a:solidFill>
                  <a:srgbClr val="ffff00"/>
                </a:solidFill>
                <a:latin typeface="Arial"/>
              </a:rPr>
              <a:t>nder eingeführt wer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50920" y="206064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00"/>
                </a:solidFill>
                <a:latin typeface="Arial"/>
              </a:rPr>
              <a:t>Demokra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50920" y="2637000"/>
            <a:ext cx="8229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00"/>
                </a:solidFill>
                <a:latin typeface="Arial"/>
              </a:rPr>
              <a:t>Rechtsstaatlichke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0920" y="3213000"/>
            <a:ext cx="8229600" cy="11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00"/>
                </a:solidFill>
                <a:latin typeface="Arial"/>
              </a:rPr>
              <a:t>Menschenrechte sowie Schutz von Minderhei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50920" y="4365720"/>
            <a:ext cx="8229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00"/>
                </a:solidFill>
                <a:latin typeface="Arial"/>
              </a:rPr>
              <a:t>Marktwirtschaf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4T09:37:26Z</dcterms:created>
  <dc:creator>Liceo Scientifico</dc:creator>
  <dc:description/>
  <dc:language>en-US</dc:language>
  <cp:lastModifiedBy>Liceo Scientifico</cp:lastModifiedBy>
  <dcterms:modified xsi:type="dcterms:W3CDTF">2006-02-18T11:47:17Z</dcterms:modified>
  <cp:revision>6</cp:revision>
  <dc:subject/>
  <dc:title>KRITERIEN FUR DEN EINTRITT IN DIE EU</dc:title>
</cp:coreProperties>
</file>