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80A7-199E-4C19-9ACE-57266730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18EA-A7C1-4882-AB11-ADA61848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98B4-35AB-4E47-BB14-2AEFBF03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DE0-016D-483A-9455-E991544C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E8A6-285D-49FD-8DCC-39F7200A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1D3-7669-439B-8496-8F4A64C3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A60E-7671-474D-9526-1AB6F0F8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50D4-D391-4DE8-BCFD-621CA3E6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86F-DC35-4021-90D6-59BC908E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5B18-C7A8-455A-BF9E-79E83B59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F9F4-D435-42AF-A6BC-F6D7B612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38C-5B73-4AF5-A92C-5260EC55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F898-DC1D-48C3-9D0E-89EC0D32B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2160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KRIE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69992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UTSCH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981000"/>
            <a:ext cx="33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Zweiter Weltkrieg (1939-19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907920"/>
            <a:ext cx="2665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Kalter Kri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11640" y="2349360"/>
            <a:ext cx="504720" cy="792360"/>
          </a:xfrm>
          <a:prstGeom prst="downArrow">
            <a:avLst>
              <a:gd name="adj1" fmla="val 50000"/>
              <a:gd name="adj2" fmla="val 3924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3429000"/>
            <a:ext cx="4535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19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In 2 Staaten eingete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708360" y="4076640"/>
            <a:ext cx="503280" cy="2872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4076640"/>
            <a:ext cx="505080" cy="2872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4437000"/>
            <a:ext cx="13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RD (W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437000"/>
            <a:ext cx="151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DDR (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5013360"/>
            <a:ext cx="0" cy="431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5013360"/>
            <a:ext cx="0" cy="431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5589720"/>
            <a:ext cx="129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6360" y="5516640"/>
            <a:ext cx="1152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Uds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11640" y="1052640"/>
            <a:ext cx="503280" cy="576000"/>
          </a:xfrm>
          <a:prstGeom prst="downArrow">
            <a:avLst>
              <a:gd name="adj1" fmla="val 50000"/>
              <a:gd name="adj2" fmla="val 2861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endCxn id="44" idx="0"/>
          </p:cNvCxnSpPr>
          <p:nvPr/>
        </p:nvCxnSpPr>
        <p:spPr>
          <a:xfrm flipH="1" rot="16200000">
            <a:off x="6138360" y="133560"/>
            <a:ext cx="432360" cy="1117080"/>
          </a:xfrm>
          <a:prstGeom prst="bentConnector3">
            <a:avLst>
              <a:gd name="adj1" fmla="val 23750"/>
            </a:avLst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7" name=""/>
          <p:cNvCxnSpPr>
            <a:endCxn id="43" idx="0"/>
          </p:cNvCxnSpPr>
          <p:nvPr/>
        </p:nvCxnSpPr>
        <p:spPr>
          <a:xfrm rot="5400000">
            <a:off x="2284920" y="134280"/>
            <a:ext cx="505080" cy="1189440"/>
          </a:xfrm>
          <a:prstGeom prst="bentConnector3">
            <a:avLst>
              <a:gd name="adj1" fmla="val 27532"/>
            </a:avLst>
          </a:prstGeom>
          <a:ln w="9360">
            <a:solidFill>
              <a:srgbClr val="ffff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0"/>
          <a:ext cx="9144000" cy="69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9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Courier New"/>
              </a:rPr>
              <a:t>13. August 19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365720"/>
            <a:ext cx="226836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 u="sng">
                <a:solidFill>
                  <a:srgbClr val="ff0000"/>
                </a:solidFill>
                <a:uFillTx/>
                <a:latin typeface="Courier New"/>
              </a:rPr>
              <a:t>Mau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 u="sng">
                <a:solidFill>
                  <a:srgbClr val="ff0000"/>
                </a:solidFill>
                <a:uFillTx/>
                <a:latin typeface="Courier New"/>
              </a:rPr>
              <a:t>in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 u="sng">
                <a:solidFill>
                  <a:srgbClr val="ff0000"/>
                </a:solidFill>
                <a:uFillTx/>
                <a:latin typeface="Courier New"/>
              </a:rPr>
              <a:t>Berli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75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loud"/>
          <p:cNvSpPr/>
          <p:nvPr/>
        </p:nvSpPr>
        <p:spPr>
          <a:xfrm>
            <a:off x="324000" y="549360"/>
            <a:ext cx="2743200" cy="18381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ff"/>
                </a:solidFill>
                <a:latin typeface="Bookman Old Style"/>
              </a:rPr>
              <a:t>’</a:t>
            </a:r>
            <a:r>
              <a:rPr b="1" lang="it-IT" sz="3000" spc="-1" strike="noStrike">
                <a:solidFill>
                  <a:srgbClr val="0000ff"/>
                </a:solidFill>
                <a:latin typeface="Bookman Old Style"/>
              </a:rPr>
              <a:t>80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ff"/>
                </a:solidFill>
                <a:latin typeface="Bookman Old Style"/>
              </a:rPr>
              <a:t>Jah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6360" y="1557360"/>
            <a:ext cx="266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Gorbatsc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8000" y="3716280"/>
            <a:ext cx="223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Arial"/>
              </a:rPr>
              <a:t>GLASNO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43640" y="3716280"/>
            <a:ext cx="223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Arial"/>
              </a:rPr>
              <a:t>PERESTROJK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2"/>
          </p:cNvCxnSpPr>
          <p:nvPr/>
        </p:nvCxnSpPr>
        <p:spPr>
          <a:xfrm flipH="1">
            <a:off x="4355280" y="2637000"/>
            <a:ext cx="1693080" cy="86400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3" idx="2"/>
          </p:cNvCxnSpPr>
          <p:nvPr/>
        </p:nvCxnSpPr>
        <p:spPr>
          <a:xfrm>
            <a:off x="6048000" y="2637000"/>
            <a:ext cx="1477080" cy="86400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 rot="5400000">
            <a:off x="5975640" y="2097360"/>
            <a:ext cx="360360" cy="5327640"/>
          </a:xfrm>
          <a:custGeom>
            <a:avLst/>
            <a:gdLst>
              <a:gd name="textAreaLeft" fmla="*/ 0 w 360360"/>
              <a:gd name="textAreaRight" fmla="*/ 129960 w 360360"/>
              <a:gd name="textAreaTop" fmla="*/ 138600 h 5327640"/>
              <a:gd name="textAreaBottom" fmla="*/ 5189040 h 532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67"/>
                </a:lnTo>
                <a:cubicBezTo>
                  <a:pt x="10800" y="10067"/>
                  <a:pt x="16200" y="10967"/>
                  <a:pt x="21600" y="10967"/>
                </a:cubicBezTo>
                <a:cubicBezTo>
                  <a:pt x="16200" y="10967"/>
                  <a:pt x="10800" y="11867"/>
                  <a:pt x="10800" y="1276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87640" y="5300640"/>
            <a:ext cx="615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KOMMUNISMUS FÄL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endCxn id="63" idx="0"/>
          </p:cNvCxnSpPr>
          <p:nvPr/>
        </p:nvCxnSpPr>
        <p:spPr>
          <a:xfrm>
            <a:off x="3276360" y="1125360"/>
            <a:ext cx="2772000" cy="432720"/>
          </a:xfrm>
          <a:prstGeom prst="bentConnector2">
            <a:avLst/>
          </a:prstGeom>
          <a:ln w="38160">
            <a:solidFill>
              <a:srgbClr val="ffff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ffff00"/>
                </a:solidFill>
                <a:uFillTx/>
                <a:latin typeface="Courier New"/>
              </a:rPr>
              <a:t>9. November  1989</a:t>
            </a:r>
            <a:r>
              <a:rPr b="0" lang="it-IT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1197000"/>
            <a:ext cx="0" cy="57636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47640" y="1484280"/>
            <a:ext cx="626436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 u="sng">
                <a:solidFill>
                  <a:srgbClr val="ffff00"/>
                </a:solidFill>
                <a:uFillTx/>
                <a:latin typeface="Courier New"/>
              </a:rPr>
              <a:t>Fall der Berliner Mauer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3213000"/>
            <a:ext cx="80647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300" spc="-1" strike="noStrike" u="sng">
                <a:solidFill>
                  <a:srgbClr val="ffff00"/>
                </a:solidFill>
                <a:uFillTx/>
                <a:latin typeface="Courier New"/>
              </a:rPr>
              <a:t>Jetzt sind alle L</a:t>
            </a:r>
            <a:r>
              <a:rPr b="1" lang="en-US" sz="4300" spc="-1" strike="noStrike" u="sng">
                <a:solidFill>
                  <a:srgbClr val="ffff00"/>
                </a:solidFill>
                <a:uFillTx/>
                <a:latin typeface="Courier New"/>
                <a:ea typeface="Arial"/>
              </a:rPr>
              <a:t>ä</a:t>
            </a:r>
            <a:r>
              <a:rPr b="1" lang="it-IT" sz="4300" spc="-1" strike="noStrike" u="sng">
                <a:solidFill>
                  <a:srgbClr val="ffff00"/>
                </a:solidFill>
                <a:uFillTx/>
                <a:latin typeface="Courier New"/>
              </a:rPr>
              <a:t>nder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300" spc="-1" strike="noStrike" u="sng">
                <a:solidFill>
                  <a:srgbClr val="ffff00"/>
                </a:solidFill>
                <a:uFillTx/>
                <a:latin typeface="Courier New"/>
              </a:rPr>
              <a:t>frei zu  entscheiden,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300" spc="-1" strike="noStrike" u="sng">
                <a:solidFill>
                  <a:srgbClr val="ffff00"/>
                </a:solidFill>
                <a:uFillTx/>
                <a:latin typeface="Courier New"/>
              </a:rPr>
              <a:t>ob sie “Europa”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300" spc="-1" strike="noStrike" u="sng">
                <a:solidFill>
                  <a:srgbClr val="ffff00"/>
                </a:solidFill>
                <a:uFillTx/>
                <a:latin typeface="Courier New"/>
              </a:rPr>
              <a:t> </a:t>
            </a:r>
            <a:r>
              <a:rPr b="1" lang="it-IT" sz="4300" spc="-1" strike="noStrike" u="sng">
                <a:solidFill>
                  <a:srgbClr val="ffff00"/>
                </a:solidFill>
                <a:uFillTx/>
                <a:latin typeface="Courier New"/>
              </a:rPr>
              <a:t>werden wollen oder nich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750"/>
                            </p:stCondLst>
                            <p:childTnLst>
                              <p:par>
                                <p:cTn id="2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75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825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1:45:31Z</dcterms:created>
  <dc:creator>Liceo Scientifico</dc:creator>
  <dc:description/>
  <dc:language>en-US</dc:language>
  <cp:lastModifiedBy>Liceo Scientifico</cp:lastModifiedBy>
  <dcterms:modified xsi:type="dcterms:W3CDTF">2006-02-18T11:57:23Z</dcterms:modified>
  <cp:revision>6</cp:revision>
  <dc:subject/>
  <dc:title>Diapositiva 1</dc:title>
</cp:coreProperties>
</file>