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9208A-88D0-4D24-9177-FDCBFFBE1A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260360" y="812880"/>
            <a:ext cx="5038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-10482120"/>
            <a:ext cx="1440" cy="2258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260360" y="812880"/>
            <a:ext cx="5038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825A-DD3C-4494-B175-F1EB0945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D222-8A2E-4191-8623-F01D92F8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8000" y="151596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8000" y="374904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62DB-1936-4876-9911-B3517E5A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3040" y="151596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0440" y="151596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3040" y="374904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0440" y="374904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48B9-9FD9-4050-A7B8-6F8B9938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728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4CA4-8093-4639-B3F9-5D288787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728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DC9B-ED33-468F-BE0F-6C210B70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852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8000" y="1515960"/>
            <a:ext cx="426852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C543-B15E-4A25-8A5C-BBB07337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3855-8431-4700-B748-FD5275EB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258480"/>
            <a:ext cx="874728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7CF0-535C-40C1-9A30-EA771C3F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8000" y="1515960"/>
            <a:ext cx="426852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24CC-C6E2-4AE4-BCAE-94B09204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852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8000" y="151596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8000" y="374904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3009-E8B4-4557-866C-11DFD2AE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8000" y="151596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0905-4C08-4B6B-9E4E-E4070CD3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728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280" y="5903640"/>
            <a:ext cx="226404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3640"/>
            <a:ext cx="307980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903640"/>
            <a:ext cx="226368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1BCAB-2F06-4E42-A437-6EA8BEACD3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863640"/>
            <a:ext cx="9720360" cy="138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ff">
                <a:alpha val="50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it-IT" sz="4800" spc="-1" strike="noStrike">
                <a:solidFill>
                  <a:srgbClr val="ffffff"/>
                </a:solidFill>
                <a:latin typeface="Impact"/>
              </a:rPr>
              <a:t>Conoscere l’Europa: fare gli Europe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56920" y="4321080"/>
            <a:ext cx="6805800" cy="1656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ff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Impact"/>
              </a:rPr>
              <a:t>Liceo Scientifico “A. Einstein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Impact"/>
              </a:rPr>
              <a:t>classe IV 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Impact"/>
              </a:rPr>
              <a:t>Anno Scolastico 2005/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2920" y="2519280"/>
            <a:ext cx="9577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2664000"/>
            <a:ext cx="8424720" cy="858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33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Impact"/>
              </a:rPr>
              <a:t>“</a:t>
            </a:r>
            <a:r>
              <a:rPr b="0" lang="it-IT" sz="5400" spc="-1" strike="noStrike">
                <a:solidFill>
                  <a:srgbClr val="ffffff"/>
                </a:solidFill>
                <a:latin typeface="Impact"/>
              </a:rPr>
              <a:t>English Exceptionalism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85640" y="452520"/>
            <a:ext cx="87487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man"/>
              </a:rPr>
              <a:t>Motivi politic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099280" y="5040360"/>
            <a:ext cx="1440000" cy="1260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1280" y="1192320"/>
            <a:ext cx="965520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430200" indent="-216000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man"/>
                <a:ea typeface="Lucida Sans Unicode"/>
              </a:rPr>
              <a:t>Politica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man"/>
                <a:ea typeface="Lucida Sans Unicode"/>
              </a:rPr>
              <a:t>L'adozione della costituzione e della moneta, senza consultare i cittadini, causerebbe una diminuzione dei consensi (un referendum popolare darebbe esito negativo con una maggioranza del 70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man"/>
                <a:ea typeface="Lucida Sans Unicode"/>
              </a:rPr>
              <a:t>Politica es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man"/>
                <a:ea typeface="Lucida Sans Unicode"/>
              </a:rPr>
              <a:t>Scetticismo verso la politica estera comune e verso le relazioni estere adottate dall'Unione Europea (difesa, rapporti con la Nato e rapporti internaziona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0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man"/>
                <a:ea typeface="Lucida Sans Unicode"/>
              </a:rPr>
              <a:t>Duplice posizione: diffidenza verso l'Europa continentale e rapporto speciale di alleanza con gli Stati Uni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5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500"/>
                            </p:stCondLst>
                            <p:childTnLst>
                              <p:par>
                                <p:cTn id="5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9640" y="726120"/>
            <a:ext cx="874872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oman"/>
              </a:rPr>
              <a:t>Motivi amministrati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8099280" y="5040360"/>
            <a:ext cx="1440000" cy="126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96800" y="2017800"/>
            <a:ext cx="873144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430200" indent="-324000">
              <a:lnSpc>
                <a:spcPct val="90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man"/>
                <a:ea typeface="Lucida Sans Unicode"/>
              </a:rPr>
              <a:t>Adottare l’euro significherebbe limitare le spese sugli investimenti specialmente su quelli destinati ai servizi pubbl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324000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324000">
              <a:lnSpc>
                <a:spcPct val="90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man"/>
                <a:ea typeface="Lucida Sans Unicode"/>
              </a:rPr>
              <a:t>La conversione all'euro distoglierebbe il governo dal realizzare il rilancio promesso dei servizi  pubbl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099280" y="5040360"/>
            <a:ext cx="1440000" cy="12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85640" y="481680"/>
            <a:ext cx="874872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oman"/>
              </a:rPr>
              <a:t>Motivi economi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5640" y="2160720"/>
            <a:ext cx="8748720" cy="35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Roman"/>
              </a:rPr>
              <a:t>La disoccupazione è alta nei Paesi che hanno l'euro, perché non riescono più a controllare le loro economie e devono tollerare spesso decisioni economiche dann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Roman"/>
              </a:rPr>
              <a:t>La Gran Bretagna sta creando numerosi nuovi impieghi. La disoccupazione è al minimo livello e risulta essere quasi la metà di quella dei Paesi che hanno adottato la moneta un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Roman"/>
              </a:rPr>
              <a:t>Se l'Inghilterra entrasse nell'Unione Economica Monetaria, la sua economia perderebbe stabilità e crescerebbe meno velocemente: dovrebbe farsi carico dei problemi degli altri pae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0360" y="1260360"/>
            <a:ext cx="900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1297080"/>
            <a:ext cx="864072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man"/>
              </a:rPr>
              <a:t>La disoccup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8099280" y="5040360"/>
            <a:ext cx="1440000" cy="126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5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099280" y="5040360"/>
            <a:ext cx="1440000" cy="1260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85640" y="568440"/>
            <a:ext cx="8748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man"/>
              </a:rPr>
              <a:t>Le pens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5640" y="1515960"/>
            <a:ext cx="8748720" cy="45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Roman"/>
              </a:rPr>
              <a:t>I paesi dell'Unione Economica Monetaria hanno popolazioni vecchie e i governi si ritrovano ad affrontare grossi oneri per le pensioni. Per risolvere la questione sono costretti a tagliare le spese o ad aumentare le t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Roman"/>
              </a:rPr>
              <a:t>Anche per l'Inghilterra quello delle pensioni è un problema non indifferente, ma risulta molto meno gravoso rispetto agli altri s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Roman"/>
              </a:rPr>
              <a:t>Se l'Inghilterra dovesse aderire all'euro si ritroverebbe a dover pagare direttamente per sostenere le economie manchevoli o pagare indirettamente attraverso un più alto tasso di  interesse. Finirebbe quindi col farsi carico di fallimentari sistemi pensionis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8099280" y="5040360"/>
            <a:ext cx="1440000" cy="126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240" y="2490840"/>
            <a:ext cx="87469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Perplessità dell'Inghilterra sulla Costituzione Europe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85640" y="2041200"/>
            <a:ext cx="426888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 libertà d'espressi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imore di contrasti tra la Costituzione e i precedenti trattati sui diritti fondamentali (convenzione del1950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ssaggio di poteri dallo Stato all'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6800" y="1712880"/>
            <a:ext cx="861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8120" y="6151680"/>
            <a:ext cx="1922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2680" y="1701720"/>
            <a:ext cx="91850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0840" y="372600"/>
            <a:ext cx="39099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738360" indent="-281160"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 punti contest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68720" y="2041560"/>
            <a:ext cx="426744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8040" indent="-338040">
              <a:lnSpc>
                <a:spcPct val="87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'Art.11 garantisce la libertà d'espres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7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'Art.52 della Carta Europea sui diritti fondamentali stabilisce che ogni diritto stabilito nella Convenzione rimane invari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7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7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'Art.1 prevede già un passaggio di pot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65640" y="314280"/>
            <a:ext cx="420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Articoli della Costituzione a confu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500"/>
                            </p:stCondLst>
                            <p:childTnLst>
                              <p:par>
                                <p:cTn id="6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00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0480" y="0"/>
            <a:ext cx="874692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dubbi dell’Inghilter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8600" y="1063800"/>
            <a:ext cx="37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Adozione della Costituzione senza il coinvolgimento della pop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471680"/>
            <a:ext cx="153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06960" y="1335240"/>
            <a:ext cx="32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Diminuzione dei consen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79480" y="2355840"/>
            <a:ext cx="32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Politica economico- fi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22880" y="2627280"/>
            <a:ext cx="153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32440" y="2082960"/>
            <a:ext cx="30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Adeguamento ad economie più deboli ed arretrate rispetto a quella ingl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38120" y="3989520"/>
            <a:ext cx="21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Politica est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59320" y="3715920"/>
            <a:ext cx="2143080" cy="544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78360" y="3444840"/>
            <a:ext cx="31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Indebolimento dell’autonomia politica naz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59320" y="4260960"/>
            <a:ext cx="2143080" cy="544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02400" y="4464000"/>
            <a:ext cx="33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Perdita del diritto di veto in 20 set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57240" y="555300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Fattore ideolo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17960" y="5757840"/>
            <a:ext cx="1684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32440" y="5213520"/>
            <a:ext cx="32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Timore di perdere la propria identità nazionale e di diventare un vassallo dell’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3000"/>
                            </p:stCondLst>
                            <p:childTnLst>
                              <p:par>
                                <p:cTn id="6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35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6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4500"/>
                            </p:stCondLst>
                            <p:childTnLst>
                              <p:par>
                                <p:cTn id="7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0"/>
                            </p:stCondLst>
                            <p:childTnLst>
                              <p:par>
                                <p:cTn id="7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500"/>
                            </p:stCondLst>
                            <p:childTnLst>
                              <p:par>
                                <p:cTn id="7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6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6500"/>
                            </p:stCondLst>
                            <p:childTnLst>
                              <p:par>
                                <p:cTn id="7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7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3120" y="649080"/>
            <a:ext cx="8748720" cy="116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visioni all'interno del governo britann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72760" y="2626920"/>
            <a:ext cx="8574120" cy="31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r>
              <a:rPr b="1" i="1" lang="en-US" sz="18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Il governo Laburista é favorevole all‘ adozione della Costituzione Europea. Il primo ministro Blair dice che è essenziale, sia economicamente che politicamente, per mantenere l'Inghilterra nel cuore dell'Europ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3000"/>
              </a:lnSpc>
              <a:buNone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r>
              <a:rPr b="1" i="1" lang="en-US" sz="18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I liberal-democratici favoriscono la costituzione, affermando che il boicottaggio di essa da parte dell'inghilterra è anti-costituziona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br>
              <a:rPr sz="1800"/>
            </a:br>
            <a:r>
              <a:rPr b="1" i="1" lang="en-US" sz="18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Il partito conservatore britannico e il piccolo partito euroscettico UKIP stanno facendo leva sul malcontento generale della popolazione per rimettere in discussione la posizione della Gran Bretagna nell'Unione europea e per opporre l'approvazione referendaria della Costituzione europe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ivisioni all’interno del governo ingle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66760" y="1471680"/>
          <a:ext cx="9108720" cy="4762440"/>
        </p:xfrm>
        <a:graphic>
          <a:graphicData uri="http://schemas.openxmlformats.org/drawingml/2006/table">
            <a:tbl>
              <a:tblPr/>
              <a:tblGrid>
                <a:gridCol w="3035520"/>
                <a:gridCol w="3037680"/>
                <a:gridCol w="3035520"/>
              </a:tblGrid>
              <a:tr h="6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TIT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CHE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89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VOREVOL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aburi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 non rimanere isolati dal resto dell’Europ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beral-democrati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l boicottaggio della Costituzione è anticostituzion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TRAR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servatori e partito euroscettico UKI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dita dell’ identità naziona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310520" y="5418000"/>
            <a:ext cx="1990800" cy="817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44520" y="5418000"/>
            <a:ext cx="1989000" cy="817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1569960" y="1743120"/>
            <a:ext cx="635184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Turchia nell'UE...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338120" y="4056120"/>
            <a:ext cx="719640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La posizione dell’ Inghilterra.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>
    <p:wheel spokes="8"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500"/>
                            </p:stCondLst>
                            <p:childTnLst>
                              <p:par>
                                <p:cTn id="764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8280" y="2013120"/>
            <a:ext cx="8263080" cy="138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800" spc="-1" strike="noStrike">
                <a:solidFill>
                  <a:srgbClr val="ffffff"/>
                </a:solidFill>
                <a:latin typeface="Impact"/>
              </a:rPr>
              <a:t>“</a:t>
            </a:r>
            <a:r>
              <a:rPr b="0" lang="it-IT" sz="4800" spc="-1" strike="noStrike">
                <a:solidFill>
                  <a:srgbClr val="ffffff"/>
                </a:solidFill>
                <a:latin typeface="Impact"/>
              </a:rPr>
              <a:t>Inghilterra vs Europa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56920" y="3671640"/>
            <a:ext cx="6805800" cy="165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ff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Impact"/>
              </a:rPr>
              <a:t>500 anni di storia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98600" y="790560"/>
            <a:ext cx="8572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3300"/>
                </a:solidFill>
                <a:latin typeface="Comic Sans MS"/>
              </a:rPr>
              <a:t>Posizione turco-scettica: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 l’entrata di 90.000.000 di Turchi rischia di mettere in crisi il carattere  storico-culturale dell’Unione Europea, poiché la Turchia  non ha una coscienza di identità europea. Inoltre forti dubbi persistono sulla tutela dei diritti umani e democrati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3120" y="3648240"/>
            <a:ext cx="8421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3300"/>
                </a:solidFill>
                <a:latin typeface="Comic Sans MS"/>
              </a:rPr>
              <a:t>Risposta britannica: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 la perdita di identità storica dell’Unione è compensata dalla costituzione di un’ ampia zona, dall’Atlantico a Vladivostock, di democrazie basate sul libero scambio, il rispetto della legge e dei diritti umani e il libero flusso di capita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957240" y="0"/>
            <a:ext cx="705636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Turcoscetticismo vs Turcofili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>
    <p:wheel spokes="8"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77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1" dur="77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3" dur="77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5" dur="77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8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77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1" dur="77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3" dur="77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5" dur="77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73120" y="1537920"/>
            <a:ext cx="888984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267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Da una recente ricerca sui principali quotidiani ingl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Daily Telegrap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The Indipen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The Daily 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The Spect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emerge che tutta la stampa è favorevole all’ingresso de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Turchia nell’ 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79480" y="654120"/>
            <a:ext cx="794844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La posizione della stampa inglese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77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4" dur="770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6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8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3000"/>
                            </p:stCondLst>
                            <p:childTnLst>
                              <p:par>
                                <p:cTn id="8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4000"/>
                            </p:stCondLst>
                            <p:childTnLst>
                              <p:par>
                                <p:cTn id="8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1743120"/>
            <a:ext cx="97203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Valutazione positiva del progetto di modernizzazione di Kemal: la Turchia viene vista come un modello di stato secolare per il mondo islamico, dove gli abusi dei diritti umani verranno presto cancellati dall’incontrovertibile e sostanziale processo di rifor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onsiderazioni di strategia politica: l’entrata della Turchia nell’Unione favorirà il ruolo geopolitico e strategico dell’UE, estendendo il suo territorio in Asia e trasformandola in una superpotenza con ruolo dominante nel Medio Or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onsiderazioni di tipo economico: la Turchia è un importante partner commerciale per il Regno Unito e potrebbe dare nuovo vigore all’economia europea, ringiovanendo anche la forza-lavoro di un’Europa che invecch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4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569960" y="585720"/>
            <a:ext cx="604512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Argomenti a favor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>
    <p:wheel spokes="8"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9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8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1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4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-360" y="1537920"/>
            <a:ext cx="9720360" cy="49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609480">
              <a:lnSpc>
                <a:spcPct val="90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Comic Sans MS"/>
              </a:rPr>
              <a:t>L’estraneità all’eredità comune dell’impero di Carlomagno, che si riassume oggi nel concetto di ‘identità europea’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Comic Sans MS"/>
              </a:rPr>
              <a:t>la mentalità isolazionista che alimenta un sentimento di ‘alterità’, derivante da una precoce esperienza di stato unitario (XIII sec.)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Comic Sans MS"/>
              </a:rPr>
              <a:t>l’esperienza storica dell’Impero britannico e l’abitudine a gestire la diversità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Comic Sans MS"/>
              </a:rPr>
              <a:t>le politiche multiculturali derivate da una precoce esperienza nella gestione dell’immigrazione dalle colonie e, di conseguenza, dalla diversità culturale e religiosa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Comic Sans MS"/>
              </a:rPr>
              <a:t>il tradizionale liberismo economico e la fiducia nel libero scambio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Aft>
                <a:spcPts val="1426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Comic Sans MS"/>
              </a:rPr>
              <a:t>gli obiettivi di politica estera di tipo trans-Atlantico piuttosto che europe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569960" y="246240"/>
            <a:ext cx="648972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English Exceptionalis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Ragioni storico-politich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>
    <p:wheel spokes="8"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0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500"/>
                            </p:stCondLst>
                            <p:childTnLst>
                              <p:par>
                                <p:cTn id="893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4000"/>
                            </p:stCondLst>
                            <p:childTnLst>
                              <p:par>
                                <p:cTn id="898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500"/>
                            </p:stCondLst>
                            <p:childTnLst>
                              <p:par>
                                <p:cTn id="90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7000"/>
                            </p:stCondLst>
                            <p:childTnLst>
                              <p:par>
                                <p:cTn id="908" nodeType="after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8500"/>
                            </p:stCondLst>
                            <p:childTnLst>
                              <p:par>
                                <p:cTn id="913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68320" y="474840"/>
            <a:ext cx="7983720" cy="424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658960"/>
                <a:tab algn="l" pos="3324240"/>
                <a:tab algn="l" pos="3987720"/>
                <a:tab algn="l" pos="4653000"/>
                <a:tab algn="l" pos="5318280"/>
                <a:tab algn="l" pos="5983200"/>
                <a:tab algn="l" pos="6647040"/>
                <a:tab algn="l" pos="73119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  <a:tab algn="l" pos="10318680"/>
                <a:tab algn="l" pos="10731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Impact"/>
              </a:rPr>
              <a:t>LO SCISMA DALLA CHIESA DI RO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7760" y="1697040"/>
            <a:ext cx="91994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7760" y="925560"/>
            <a:ext cx="9024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buClr>
                <a:srgbClr val="333399"/>
              </a:buClr>
              <a:buSzPct val="45000"/>
              <a:buFont typeface="Wingdings" charset="2"/>
              <a:buChar char=""/>
              <a:tabLst>
                <a:tab algn="l" pos="665280"/>
                <a:tab algn="l" pos="1328760"/>
                <a:tab algn="l" pos="1994040"/>
                <a:tab algn="l" pos="2658960"/>
                <a:tab algn="l" pos="3324240"/>
                <a:tab algn="l" pos="3987720"/>
                <a:tab algn="l" pos="4653000"/>
                <a:tab algn="l" pos="5318280"/>
                <a:tab algn="l" pos="5983200"/>
                <a:tab algn="l" pos="6647040"/>
                <a:tab algn="l" pos="7311960"/>
                <a:tab algn="l" pos="7977240"/>
                <a:tab algn="l" pos="8255160"/>
                <a:tab algn="l" pos="8667720"/>
                <a:tab algn="l" pos="9080640"/>
                <a:tab algn="l" pos="9493200"/>
                <a:tab algn="l" pos="9906120"/>
                <a:tab algn="l" pos="10318680"/>
                <a:tab algn="l" pos="107316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Per l'annullamento del matrimonio tra EnricoVIII e Caterina D'Aragon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13600" y="1387440"/>
            <a:ext cx="34740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7760" y="2006640"/>
            <a:ext cx="9024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658960"/>
                <a:tab algn="l" pos="3324240"/>
                <a:tab algn="l" pos="3987720"/>
                <a:tab algn="l" pos="4653000"/>
                <a:tab algn="l" pos="5318280"/>
                <a:tab algn="l" pos="5983200"/>
                <a:tab algn="l" pos="6647040"/>
                <a:tab algn="l" pos="7311960"/>
                <a:tab algn="l" pos="7977240"/>
                <a:tab algn="l" pos="8255160"/>
                <a:tab algn="l" pos="8667720"/>
                <a:tab algn="l" pos="9080640"/>
                <a:tab algn="l" pos="9493200"/>
                <a:tab algn="l" pos="9906120"/>
                <a:tab algn="l" pos="10318680"/>
                <a:tab algn="l" pos="107316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533: Statuto degli Appelli e scomunica di Enrico VIII da parte di Papa Clemente VI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7600" y="4011480"/>
            <a:ext cx="357660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65896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  <a:tab algn="l" pos="10318680"/>
                <a:tab algn="l" pos="107316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1559: nuovo Atto di Supremazia 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65896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  <a:tab algn="l" pos="10318680"/>
                <a:tab algn="l" pos="107316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nuovo Book of Common Praye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65896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  <a:tab algn="l" pos="10318680"/>
                <a:tab algn="l" pos="107316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1570: Elisabetta è scomunicat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65896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  <a:tab algn="l" pos="10318680"/>
                <a:tab algn="l" pos="107316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da Papa Pio 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7760" y="5092560"/>
            <a:ext cx="88516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buClr>
                <a:srgbClr val="333399"/>
              </a:buClr>
              <a:buSzPct val="45000"/>
              <a:buFont typeface="Wingdings" charset="2"/>
              <a:buChar char=""/>
              <a:tabLst>
                <a:tab algn="l" pos="665280"/>
                <a:tab algn="l" pos="1328760"/>
                <a:tab algn="l" pos="1994040"/>
                <a:tab algn="l" pos="2658960"/>
                <a:tab algn="l" pos="3324240"/>
                <a:tab algn="l" pos="3987720"/>
                <a:tab algn="l" pos="4653000"/>
                <a:tab algn="l" pos="5318280"/>
                <a:tab algn="l" pos="5983200"/>
                <a:tab algn="l" pos="6647040"/>
                <a:tab algn="l" pos="7311960"/>
                <a:tab algn="l" pos="7977240"/>
                <a:tab algn="l" pos="8255160"/>
                <a:tab algn="l" pos="8667720"/>
                <a:tab algn="l" pos="9080640"/>
                <a:tab algn="l" pos="9493200"/>
                <a:tab algn="l" pos="9906120"/>
                <a:tab algn="l" pos="10318680"/>
                <a:tab algn="l" pos="107316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Inizio della persecuzione dei Cattolici e dei puritan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333399"/>
              </a:buClr>
              <a:buSzPct val="45000"/>
              <a:buFont typeface="Wingdings" charset="2"/>
              <a:buChar char=""/>
              <a:tabLst>
                <a:tab algn="l" pos="665280"/>
                <a:tab algn="l" pos="1328760"/>
                <a:tab algn="l" pos="1994040"/>
                <a:tab algn="l" pos="2658960"/>
                <a:tab algn="l" pos="3324240"/>
                <a:tab algn="l" pos="3987720"/>
                <a:tab algn="l" pos="4653000"/>
                <a:tab algn="l" pos="5318280"/>
                <a:tab algn="l" pos="5983200"/>
                <a:tab algn="l" pos="6647040"/>
                <a:tab algn="l" pos="7311960"/>
                <a:tab algn="l" pos="7977240"/>
                <a:tab algn="l" pos="8255160"/>
                <a:tab algn="l" pos="8667720"/>
                <a:tab algn="l" pos="9080640"/>
                <a:tab algn="l" pos="9493200"/>
                <a:tab algn="l" pos="9906120"/>
                <a:tab algn="l" pos="10318680"/>
                <a:tab algn="l" pos="107316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L'Inghilterra prende la distanza dal continente, in particolare dall'Itali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3394080"/>
            <a:ext cx="34776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41880" y="3394080"/>
            <a:ext cx="48600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00760" y="3054240"/>
            <a:ext cx="34776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19320" y="3086280"/>
            <a:ext cx="34776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497720" y="3549600"/>
            <a:ext cx="1800" cy="461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7760" y="1233360"/>
            <a:ext cx="6040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buClr>
                <a:srgbClr val="333399"/>
              </a:buClr>
              <a:buSzPct val="45000"/>
              <a:buFont typeface="Wingdings" charset="2"/>
              <a:buChar char=""/>
              <a:tabLst>
                <a:tab algn="l" pos="665280"/>
                <a:tab algn="l" pos="1328760"/>
                <a:tab algn="l" pos="1994040"/>
                <a:tab algn="l" pos="2658960"/>
                <a:tab algn="l" pos="3324240"/>
                <a:tab algn="l" pos="3987720"/>
                <a:tab algn="l" pos="4653000"/>
                <a:tab algn="l" pos="53182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  <a:tab algn="l" pos="10318680"/>
                <a:tab algn="l" pos="107316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Per l'affermazione della superiorità spirituale del monar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61000" y="1265400"/>
            <a:ext cx="29512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65896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  <a:tab algn="l" pos="10318680"/>
                <a:tab algn="l" pos="107316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llegalità dell'autorità papa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1511280"/>
            <a:ext cx="5379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buClr>
                <a:srgbClr val="333399"/>
              </a:buClr>
              <a:buSzPct val="45000"/>
              <a:buFont typeface="Wingdings" charset="2"/>
              <a:buChar char=""/>
              <a:tabLst>
                <a:tab algn="l" pos="665280"/>
                <a:tab algn="l" pos="1328760"/>
                <a:tab algn="l" pos="1994040"/>
                <a:tab algn="l" pos="2658960"/>
                <a:tab algn="l" pos="3324240"/>
                <a:tab algn="l" pos="3987720"/>
                <a:tab algn="l" pos="465300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  <a:tab algn="l" pos="10318680"/>
                <a:tab algn="l" pos="10731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Per la confisca delle ricchezze della Chiesa Ingles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7760" y="2325600"/>
            <a:ext cx="2950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65896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  <a:tab algn="l" pos="10318680"/>
                <a:tab algn="l" pos="107316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534: Atto di Sottomissi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7760" y="2635200"/>
            <a:ext cx="2776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536: Atto di Supremaz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7760" y="2943360"/>
            <a:ext cx="2776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553: morte di Edoardo V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97240" y="2911320"/>
            <a:ext cx="2776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ale al trono Maria Tud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2911320"/>
            <a:ext cx="24303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ritorno al cattolicesim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7760" y="3240000"/>
            <a:ext cx="2950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65896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  <a:tab algn="l" pos="10318680"/>
                <a:tab algn="l" pos="107316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558: morte di Maria Tud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71840" y="3251160"/>
            <a:ext cx="26035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ale al trono Elisabetta 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21320" y="3251160"/>
            <a:ext cx="2082960" cy="32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econdo Scism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84400" y="4227480"/>
            <a:ext cx="2603520" cy="771480"/>
          </a:xfrm>
          <a:custGeom>
            <a:avLst/>
            <a:gdLst/>
            <a:ahLst/>
            <a:rect l="l" t="t" r="r" b="b"/>
            <a:pathLst>
              <a:path w="7501" h="2501">
                <a:moveTo>
                  <a:pt x="3000" y="1249"/>
                </a:moveTo>
                <a:lnTo>
                  <a:pt x="2000" y="1249"/>
                </a:lnTo>
                <a:lnTo>
                  <a:pt x="2000" y="625"/>
                </a:lnTo>
                <a:lnTo>
                  <a:pt x="7500" y="625"/>
                </a:lnTo>
                <a:lnTo>
                  <a:pt x="7500" y="0"/>
                </a:lnTo>
                <a:lnTo>
                  <a:pt x="1000" y="0"/>
                </a:lnTo>
                <a:lnTo>
                  <a:pt x="1000" y="1249"/>
                </a:lnTo>
                <a:lnTo>
                  <a:pt x="0" y="1249"/>
                </a:lnTo>
                <a:lnTo>
                  <a:pt x="1447" y="2500"/>
                </a:lnTo>
                <a:lnTo>
                  <a:pt x="3000" y="124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700"/>
                            </p:stCondLst>
                            <p:childTnLst>
                              <p:par>
                                <p:cTn id="4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700"/>
                            </p:stCondLst>
                            <p:childTnLst>
                              <p:par>
                                <p:cTn id="4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700"/>
                            </p:stCondLst>
                            <p:childTnLst>
                              <p:par>
                                <p:cTn id="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200"/>
                            </p:stCondLst>
                            <p:childTnLst>
                              <p:par>
                                <p:cTn id="6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200"/>
                            </p:stCondLst>
                            <p:childTnLst>
                              <p:par>
                                <p:cTn id="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200"/>
                            </p:stCondLst>
                            <p:childTnLst>
                              <p:par>
                                <p:cTn id="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200"/>
                            </p:stCondLst>
                            <p:childTnLst>
                              <p:par>
                                <p:cTn id="8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200"/>
                            </p:stCondLst>
                            <p:childTnLst>
                              <p:par>
                                <p:cTn id="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9200"/>
                            </p:stCondLst>
                            <p:childTnLst>
                              <p:par>
                                <p:cTn id="1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200"/>
                            </p:stCondLst>
                            <p:childTnLst>
                              <p:par>
                                <p:cTn id="1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700"/>
                            </p:stCondLst>
                            <p:childTnLst>
                              <p:par>
                                <p:cTn id="1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1700"/>
                            </p:stCondLst>
                            <p:childTnLst>
                              <p:par>
                                <p:cTn id="1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2200"/>
                            </p:stCondLst>
                            <p:childTnLst>
                              <p:par>
                                <p:cTn id="1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3200"/>
                            </p:stCondLst>
                            <p:childTnLst>
                              <p:par>
                                <p:cTn id="1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4200"/>
                            </p:stCondLst>
                            <p:childTnLst>
                              <p:par>
                                <p:cTn id="1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700"/>
                            </p:stCondLst>
                            <p:childTnLst>
                              <p:par>
                                <p:cTn id="1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700"/>
                            </p:stCondLst>
                            <p:childTnLst>
                              <p:par>
                                <p:cTn id="1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6200"/>
                            </p:stCondLst>
                            <p:childTnLst>
                              <p:par>
                                <p:cTn id="1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7200"/>
                            </p:stCondLst>
                            <p:childTnLst>
                              <p:par>
                                <p:cTn id="1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9200"/>
                            </p:stCondLst>
                            <p:childTnLst>
                              <p:par>
                                <p:cTn id="20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1200"/>
                            </p:stCondLst>
                            <p:childTnLst>
                              <p:par>
                                <p:cTn id="2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2200"/>
                            </p:stCondLst>
                            <p:childTnLst>
                              <p:par>
                                <p:cTn id="2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47760" y="617400"/>
            <a:ext cx="9372600" cy="424800"/>
          </a:xfrm>
          <a:prstGeom prst="rect">
            <a:avLst/>
          </a:prstGeom>
          <a:noFill/>
          <a:ln w="0">
            <a:noFill/>
          </a:ln>
          <a:effectLst>
            <a:outerShdw dist="102388" dir="1783193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658960"/>
                <a:tab algn="l" pos="3324240"/>
                <a:tab algn="l" pos="3987720"/>
                <a:tab algn="l" pos="4653000"/>
                <a:tab algn="l" pos="5318280"/>
                <a:tab algn="l" pos="5983200"/>
                <a:tab algn="l" pos="6647040"/>
                <a:tab algn="l" pos="7311960"/>
                <a:tab algn="l" pos="7977240"/>
                <a:tab algn="l" pos="8642520"/>
                <a:tab algn="l" pos="8667720"/>
                <a:tab algn="l" pos="9080640"/>
                <a:tab algn="l" pos="9493200"/>
                <a:tab algn="l" pos="9906120"/>
                <a:tab algn="l" pos="10318680"/>
                <a:tab algn="l" pos="10731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Impact"/>
              </a:rPr>
              <a:t>LA RIVOLUZIONE INDUSTRIALE INGLESE (sec. XVII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0160" y="2878200"/>
            <a:ext cx="1735200" cy="69876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665280"/>
                <a:tab algn="l" pos="132876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Sans Unicode"/>
              </a:rPr>
              <a:t>Perchè in Inghilter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4960" y="1203480"/>
            <a:ext cx="189396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ondizione di pace stabile e duratur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46760" y="1400040"/>
            <a:ext cx="2281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umento demografic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59480" y="1295280"/>
            <a:ext cx="253044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umento fabbisogno aliment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80880" y="3024360"/>
            <a:ext cx="21063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Rivoluzione agricol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16560" y="4165560"/>
            <a:ext cx="277812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buClr>
                <a:srgbClr val="333399"/>
              </a:buClr>
              <a:buSzPct val="45000"/>
              <a:buFont typeface="Wingdings" charset="2"/>
              <a:buChar char=""/>
              <a:tabLst>
                <a:tab algn="l" pos="665280"/>
                <a:tab algn="l" pos="1328760"/>
                <a:tab algn="l" pos="199404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Surplus di manodoper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disponibile per l'industr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333399"/>
              </a:buClr>
              <a:buSzPct val="45000"/>
              <a:buFont typeface="Wingdings" charset="2"/>
              <a:buChar char=""/>
              <a:tabLst>
                <a:tab algn="l" pos="665280"/>
                <a:tab algn="l" pos="1328760"/>
                <a:tab algn="l" pos="199404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Spostamento di capitali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reinvestiment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65560" y="4289400"/>
            <a:ext cx="17352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viluppo settor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13320" y="5037120"/>
            <a:ext cx="156204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buClr>
                <a:srgbClr val="333399"/>
              </a:buClr>
              <a:buSzPct val="45000"/>
              <a:buFont typeface="Wingdings" charset="2"/>
              <a:buChar char=""/>
              <a:tabLst>
                <a:tab algn="l" pos="665280"/>
                <a:tab algn="l" pos="132876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essil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333399"/>
              </a:buClr>
              <a:buSzPct val="45000"/>
              <a:buFont typeface="Wingdings" charset="2"/>
              <a:buChar char=""/>
              <a:tabLst>
                <a:tab algn="l" pos="665280"/>
                <a:tab algn="l" pos="132876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iderurgic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0560" y="2930400"/>
            <a:ext cx="243072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Disponibilità di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materie pri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0560" y="4321080"/>
            <a:ext cx="312444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65896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  <a:tab algn="l" pos="10318680"/>
                <a:tab algn="l" pos="107316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Commercio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333399"/>
              </a:buClr>
              <a:buSzPct val="45000"/>
              <a:buFont typeface="Wingdings" charset="2"/>
              <a:buChar char=""/>
              <a:tabLst>
                <a:tab algn="l" pos="665280"/>
                <a:tab algn="l" pos="1328760"/>
                <a:tab algn="l" pos="1994040"/>
                <a:tab algn="l" pos="265896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  <a:tab algn="l" pos="10318680"/>
                <a:tab algn="l" pos="107316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Liberalism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333399"/>
              </a:buClr>
              <a:buSzPct val="45000"/>
              <a:buFont typeface="Wingdings" charset="2"/>
              <a:buChar char=""/>
              <a:tabLst>
                <a:tab algn="l" pos="665280"/>
                <a:tab algn="l" pos="1328760"/>
                <a:tab algn="l" pos="1994040"/>
                <a:tab algn="l" pos="265896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  <a:tab algn="l" pos="10318680"/>
                <a:tab algn="l" pos="107316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Allargamento merca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65896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  <a:tab algn="l" pos="10318680"/>
                <a:tab algn="l" pos="107316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intern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333399"/>
              </a:buClr>
              <a:buSzPct val="45000"/>
              <a:buFont typeface="Wingdings" charset="2"/>
              <a:buChar char=""/>
              <a:tabLst>
                <a:tab algn="l" pos="665280"/>
                <a:tab algn="l" pos="1328760"/>
                <a:tab algn="l" pos="1994040"/>
                <a:tab algn="l" pos="265896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  <a:tab algn="l" pos="10318680"/>
                <a:tab algn="l" pos="107316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Ampio mercato colonia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75360" y="3178080"/>
            <a:ext cx="52056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2253960" y="1819080"/>
            <a:ext cx="2087640" cy="1082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032440" y="1850760"/>
            <a:ext cx="1440" cy="1020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05800" y="3425760"/>
            <a:ext cx="1440" cy="617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847960" y="3178080"/>
            <a:ext cx="149544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2440" y="3549600"/>
            <a:ext cx="1440" cy="677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32440" y="4597560"/>
            <a:ext cx="1440" cy="463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19880" y="1542960"/>
            <a:ext cx="69516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705800" y="2066760"/>
            <a:ext cx="1440" cy="771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081160" y="3517920"/>
            <a:ext cx="2260800" cy="925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50"/>
                            </p:stCondLst>
                            <p:childTnLst>
                              <p:par>
                                <p:cTn id="2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55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50"/>
                            </p:stCondLst>
                            <p:childTnLst>
                              <p:par>
                                <p:cTn id="24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550"/>
                            </p:stCondLst>
                            <p:childTnLst>
                              <p:par>
                                <p:cTn id="2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050"/>
                            </p:stCondLst>
                            <p:childTnLst>
                              <p:par>
                                <p:cTn id="2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550"/>
                            </p:stCondLst>
                            <p:childTnLst>
                              <p:par>
                                <p:cTn id="2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50"/>
                            </p:stCondLst>
                            <p:childTnLst>
                              <p:par>
                                <p:cTn id="2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7550"/>
                            </p:stCondLst>
                            <p:childTnLst>
                              <p:par>
                                <p:cTn id="2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050"/>
                            </p:stCondLst>
                            <p:childTnLst>
                              <p:par>
                                <p:cTn id="2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50"/>
                            </p:stCondLst>
                            <p:childTnLst>
                              <p:par>
                                <p:cTn id="2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9050"/>
                            </p:stCondLst>
                            <p:childTnLst>
                              <p:par>
                                <p:cTn id="2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9550"/>
                            </p:stCondLst>
                            <p:childTnLst>
                              <p:par>
                                <p:cTn id="2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50"/>
                            </p:stCondLst>
                            <p:childTnLst>
                              <p:par>
                                <p:cTn id="2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550"/>
                            </p:stCondLst>
                            <p:childTnLst>
                              <p:par>
                                <p:cTn id="2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1050"/>
                            </p:stCondLst>
                            <p:childTnLst>
                              <p:par>
                                <p:cTn id="2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1550"/>
                            </p:stCondLst>
                            <p:childTnLst>
                              <p:par>
                                <p:cTn id="3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2050"/>
                            </p:stCondLst>
                            <p:childTnLst>
                              <p:par>
                                <p:cTn id="3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2550"/>
                            </p:stCondLst>
                            <p:childTnLst>
                              <p:par>
                                <p:cTn id="31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3050"/>
                            </p:stCondLst>
                            <p:childTnLst>
                              <p:par>
                                <p:cTn id="31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89240" y="461880"/>
            <a:ext cx="7810200" cy="766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658960"/>
                <a:tab algn="l" pos="3324240"/>
                <a:tab algn="l" pos="3987720"/>
                <a:tab algn="l" pos="4653000"/>
                <a:tab algn="l" pos="5318280"/>
                <a:tab algn="l" pos="5983200"/>
                <a:tab algn="l" pos="6647040"/>
                <a:tab algn="l" pos="73119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  <a:tab algn="l" pos="10318680"/>
                <a:tab algn="l" pos="10731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Impact"/>
              </a:rPr>
              <a:t>ESTREME CONSEGUENZE DELLA II RIVOLUZIONE INDUSTRI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5160" y="1387440"/>
            <a:ext cx="15624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ine XIX se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1400040"/>
            <a:ext cx="2256120" cy="324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RISI ECONOM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75360" y="1387440"/>
            <a:ext cx="347184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65896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  <a:tab algn="l" pos="10318680"/>
                <a:tab algn="l" pos="107316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Sovrapproduzi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65896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  <a:tab algn="l" pos="10318680"/>
                <a:tab algn="l" pos="107316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( = l'offerta supera la domand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5160" y="2778120"/>
            <a:ext cx="2951280" cy="324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65896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  <a:tab algn="l" pos="10318680"/>
                <a:tab algn="l" pos="107316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NGHILTERRA vs EUROP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32440" y="2778120"/>
            <a:ext cx="434016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658960"/>
                <a:tab algn="l" pos="3324240"/>
                <a:tab algn="l" pos="398772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  <a:tab algn="l" pos="10318680"/>
                <a:tab algn="l" pos="107316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Ricerca di ampliamento del mercato esteso anche ai Paesi Extraeurope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0560" y="4165560"/>
            <a:ext cx="329904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65896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  <a:tab algn="l" pos="10318680"/>
                <a:tab algn="l" pos="107316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Perde il suo ruolo di leadership nel settore industria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61080" y="4165560"/>
            <a:ext cx="2604960" cy="324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ENSIONI POLITICH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41960" y="5099040"/>
            <a:ext cx="364320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658960"/>
                <a:tab algn="l" pos="332424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  <a:tab algn="l" pos="10318680"/>
                <a:tab algn="l" pos="107316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attore concorrente alla I guerra mondia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19320" y="1542960"/>
            <a:ext cx="93672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80200" y="1542960"/>
            <a:ext cx="66024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46440" y="2930400"/>
            <a:ext cx="135252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16840" y="2006640"/>
            <a:ext cx="1440" cy="61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16840" y="3394080"/>
            <a:ext cx="1440" cy="61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17800" y="4321080"/>
            <a:ext cx="1735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49960" y="4473720"/>
            <a:ext cx="1800" cy="587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82960" y="3086280"/>
            <a:ext cx="1440" cy="925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800"/>
                            </p:stCondLst>
                            <p:childTnLst>
                              <p:par>
                                <p:cTn id="3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800"/>
                            </p:stCondLst>
                            <p:childTnLst>
                              <p:par>
                                <p:cTn id="3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800"/>
                            </p:stCondLst>
                            <p:childTnLst>
                              <p:par>
                                <p:cTn id="34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800"/>
                            </p:stCondLst>
                            <p:childTnLst>
                              <p:par>
                                <p:cTn id="3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800"/>
                            </p:stCondLst>
                            <p:childTnLst>
                              <p:par>
                                <p:cTn id="36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800"/>
                            </p:stCondLst>
                            <p:childTnLst>
                              <p:par>
                                <p:cTn id="3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800"/>
                            </p:stCondLst>
                            <p:childTnLst>
                              <p:par>
                                <p:cTn id="3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9300"/>
                            </p:stCondLst>
                            <p:childTnLst>
                              <p:par>
                                <p:cTn id="38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9800"/>
                            </p:stCondLst>
                            <p:childTnLst>
                              <p:par>
                                <p:cTn id="3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300"/>
                            </p:stCondLst>
                            <p:childTnLst>
                              <p:par>
                                <p:cTn id="39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800"/>
                            </p:stCondLst>
                            <p:childTnLst>
                              <p:par>
                                <p:cTn id="4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1300"/>
                            </p:stCondLst>
                            <p:childTnLst>
                              <p:par>
                                <p:cTn id="4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95160" y="630360"/>
            <a:ext cx="2984760" cy="10306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658960"/>
                <a:tab algn="l" pos="3324240"/>
                <a:tab algn="l" pos="3987720"/>
                <a:tab algn="l" pos="4653000"/>
                <a:tab algn="l" pos="5318280"/>
                <a:tab algn="l" pos="5983200"/>
                <a:tab algn="l" pos="6647040"/>
                <a:tab algn="l" pos="7311960"/>
                <a:tab algn="l" pos="7977240"/>
                <a:tab algn="l" pos="8255160"/>
                <a:tab algn="l" pos="8667720"/>
                <a:tab algn="l" pos="9080640"/>
                <a:tab algn="l" pos="9493200"/>
                <a:tab algn="l" pos="9906120"/>
                <a:tab algn="l" pos="10318680"/>
                <a:tab algn="l" pos="10731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Impact"/>
              </a:rPr>
              <a:t>IL GOVERNO THATC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658960"/>
                <a:tab algn="l" pos="3324240"/>
                <a:tab algn="l" pos="3987720"/>
                <a:tab algn="l" pos="4653000"/>
                <a:tab algn="l" pos="5318280"/>
                <a:tab algn="l" pos="5983200"/>
                <a:tab algn="l" pos="6647040"/>
                <a:tab algn="l" pos="7311960"/>
                <a:tab algn="l" pos="7977240"/>
                <a:tab algn="l" pos="8255160"/>
                <a:tab algn="l" pos="8667720"/>
                <a:tab algn="l" pos="9080640"/>
                <a:tab algn="l" pos="9493200"/>
                <a:tab algn="l" pos="9906120"/>
                <a:tab algn="l" pos="10318680"/>
                <a:tab algn="l" pos="107316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979/1987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1320" y="1600200"/>
            <a:ext cx="2327040" cy="128736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65280"/>
                <a:tab algn="l" pos="1328760"/>
                <a:tab algn="l" pos="1994040"/>
                <a:tab algn="l" pos="2658960"/>
                <a:tab algn="l" pos="3324240"/>
                <a:tab algn="l" pos="3987720"/>
                <a:tab algn="l" pos="4653000"/>
                <a:tab algn="l" pos="5318280"/>
                <a:tab algn="l" pos="5983200"/>
                <a:tab algn="l" pos="6647040"/>
                <a:tab algn="l" pos="73119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  <a:tab algn="l" pos="10318680"/>
                <a:tab algn="l" pos="107316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Margareth Thatcher deve affrontare un periodo di recessione                                   econom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149640"/>
            <a:ext cx="3645000" cy="56484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buClr>
                <a:srgbClr val="333399"/>
              </a:buClr>
              <a:buSzPct val="45000"/>
              <a:buFont typeface="Arial"/>
              <a:buChar char="•"/>
              <a:tabLst>
                <a:tab algn="l" pos="665280"/>
                <a:tab algn="l" pos="1328760"/>
                <a:tab algn="l" pos="1994040"/>
                <a:tab algn="l" pos="2658960"/>
                <a:tab algn="l" pos="332424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  <a:tab algn="l" pos="10318680"/>
                <a:tab algn="l" pos="107316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Avvio processo di privatizzazi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333399"/>
              </a:buClr>
              <a:buSzPct val="45000"/>
              <a:buFont typeface="Arial"/>
              <a:buChar char="•"/>
              <a:tabLst>
                <a:tab algn="l" pos="665280"/>
                <a:tab algn="l" pos="1328760"/>
                <a:tab algn="l" pos="1994040"/>
                <a:tab algn="l" pos="2658960"/>
                <a:tab algn="l" pos="332424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  <a:tab algn="l" pos="10318680"/>
                <a:tab algn="l" pos="107316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Provvedimenti di stampo liberis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51280" y="5400720"/>
            <a:ext cx="1746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90680" y="2622600"/>
            <a:ext cx="0" cy="49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90680" y="3733920"/>
            <a:ext cx="138924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903240" y="3733920"/>
            <a:ext cx="138744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680" y="4721400"/>
            <a:ext cx="19731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665280"/>
                <a:tab algn="l" pos="132876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Diminuzione delle spese social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47960" y="4597560"/>
            <a:ext cx="1735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665280"/>
                <a:tab algn="l" pos="132876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76680" y="4759200"/>
            <a:ext cx="1944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665280"/>
                <a:tab algn="l" pos="132876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Arial"/>
              </a:rPr>
              <a:t>Conflittualità sociale e polit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40440" y="676440"/>
            <a:ext cx="2360520" cy="707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665280"/>
                <a:tab algn="l" pos="132876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Impact"/>
              </a:rPr>
              <a:t>IL GOVERNO BLAIR </a:t>
            </a:r>
            <a:r>
              <a:rPr b="1" lang="it-IT" sz="1700" spc="-1" strike="noStrike">
                <a:solidFill>
                  <a:srgbClr val="ffffff"/>
                </a:solidFill>
                <a:latin typeface="Arial"/>
              </a:rPr>
              <a:t>1997/ 200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32360" y="1789200"/>
            <a:ext cx="2846520" cy="56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665280"/>
                <a:tab algn="l" pos="132876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Arial"/>
              </a:rPr>
              <a:t>Maggiore apertura all’Europ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80120" y="3301920"/>
            <a:ext cx="2220840" cy="56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665280"/>
                <a:tab algn="l" pos="132876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Arial"/>
              </a:rPr>
              <a:t>Alcune riserve, come l’adozione dell’Eur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91440" y="2376360"/>
            <a:ext cx="0" cy="801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750"/>
                            </p:stCondLst>
                            <p:childTnLst>
                              <p:par>
                                <p:cTn id="4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250"/>
                            </p:stCondLst>
                            <p:childTnLst>
                              <p:par>
                                <p:cTn id="4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250"/>
                            </p:stCondLst>
                            <p:childTnLst>
                              <p:par>
                                <p:cTn id="4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750"/>
                            </p:stCondLst>
                            <p:childTnLst>
                              <p:par>
                                <p:cTn id="4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250"/>
                            </p:stCondLst>
                            <p:childTnLst>
                              <p:par>
                                <p:cTn id="4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850"/>
                            </p:stCondLst>
                            <p:childTnLst>
                              <p:par>
                                <p:cTn id="4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6350"/>
                            </p:stCondLst>
                            <p:childTnLst>
                              <p:par>
                                <p:cTn id="47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850"/>
                            </p:stCondLst>
                            <p:childTnLst>
                              <p:par>
                                <p:cTn id="4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867040" y="1793880"/>
            <a:ext cx="3986280" cy="3497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85640" y="276120"/>
            <a:ext cx="8748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lfredo's Dance"/>
              </a:rPr>
              <a:t>L'euroscetticismo ingle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31640" y="716760"/>
            <a:ext cx="87487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man"/>
              </a:rPr>
              <a:t>Dal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Roman"/>
              </a:rPr>
              <a:t>1° gennaio 2002</a:t>
            </a:r>
            <a:r>
              <a:rPr b="0" lang="en-US" sz="2200" spc="-1" strike="noStrike">
                <a:solidFill>
                  <a:srgbClr val="ffffff"/>
                </a:solidFill>
                <a:latin typeface="Roman"/>
              </a:rPr>
              <a:t> dodici dei quindici paesi allora appartenenti all'Unione Europea hanno aderito all'Unione Economica e Monetaria, sostituendo così le singole monete nazionali con la moneta unica europea, l'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Roman"/>
              </a:rPr>
              <a:t>Euro</a:t>
            </a:r>
            <a:r>
              <a:rPr b="0" lang="en-US" sz="2200" spc="-1" strike="noStrike">
                <a:solidFill>
                  <a:srgbClr val="ffffff"/>
                </a:solidFill>
                <a:latin typeface="Roman"/>
              </a:rPr>
              <a:t>. 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Roman"/>
              </a:rPr>
              <a:t>Il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Roman"/>
              </a:rPr>
              <a:t>Regno Unito</a:t>
            </a:r>
            <a:r>
              <a:rPr b="0" lang="en-US" sz="2200" spc="-1" strike="noStrike">
                <a:solidFill>
                  <a:srgbClr val="ffffff"/>
                </a:solidFill>
                <a:latin typeface="Roman"/>
              </a:rPr>
              <a:t> ha mantenuto la sovranità sulla propria moneta. La questione è al centro di dibattiti. Le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Roman"/>
              </a:rPr>
              <a:t>posizioni contrarie</a:t>
            </a:r>
            <a:r>
              <a:rPr b="0" lang="en-US" sz="2200" spc="-1" strike="noStrike">
                <a:solidFill>
                  <a:srgbClr val="ffffff"/>
                </a:solidFill>
                <a:latin typeface="Roman"/>
              </a:rPr>
              <a:t> sono dovute 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5640" y="3456000"/>
            <a:ext cx="874872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215640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man"/>
              </a:rPr>
              <a:t>Motivi cultur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215640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man"/>
              </a:rPr>
              <a:t>Motivi poli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215640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man"/>
              </a:rPr>
              <a:t>Motivi amministra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215640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man"/>
              </a:rPr>
              <a:t>Motivi econom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720720"/>
            <a:ext cx="7380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8099280" y="5040360"/>
            <a:ext cx="1440000" cy="126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85640" y="481680"/>
            <a:ext cx="874872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oman"/>
              </a:rPr>
              <a:t>Motivi Cultur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099280" y="5040360"/>
            <a:ext cx="1440000" cy="1260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20720" y="2826720"/>
            <a:ext cx="84963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>
              <a:lnSpc>
                <a:spcPct val="90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man"/>
                <a:ea typeface="Lucida Sans Unicode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Roman"/>
                <a:ea typeface="Lucida Sans Unicode"/>
              </a:rPr>
              <a:t>Orgoglio nazionale</a:t>
            </a:r>
            <a:r>
              <a:rPr b="0" lang="en-US" sz="3200" spc="-1" strike="noStrike">
                <a:solidFill>
                  <a:srgbClr val="ffffff"/>
                </a:solidFill>
                <a:latin typeface="Roman"/>
                <a:ea typeface="Lucida Sans Unicode"/>
              </a:rPr>
              <a:t>: l'Inghilterra ha paura di       perdere la propria identità cult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09:09:43Z</dcterms:created>
  <dc:creator>User</dc:creator>
  <dc:description/>
  <dc:language>en-US</dc:language>
  <cp:lastModifiedBy>User</cp:lastModifiedBy>
  <dcterms:modified xsi:type="dcterms:W3CDTF">2006-03-18T10:21:17Z</dcterms:modified>
  <cp:revision>5</cp:revision>
  <dc:subject/>
  <dc:title>Diapositiva 1</dc:title>
</cp:coreProperties>
</file>