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projctor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C3B-9CC1-4DB5-B209-974DF6CE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2DF-75DA-40DB-AC8F-572EBD52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F04-3C91-473B-A305-3CA095A7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A77-319C-4B2A-BFA6-A3EDD263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A486-BA50-4713-9237-C6FD858B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08D-9344-42E2-98C3-7286183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728-B247-41BB-8F73-CEE5B8C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9FB5-F1DE-4148-B12D-97A5FF40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3CBB-053A-474A-AAC3-DFC85DB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337D-0E18-496A-9062-49AA54A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9A62-88DA-4249-BDB5-B40C921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0F2-87C4-4D76-A184-CDFB12FA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5FC-4151-4E8C-B6B5-9DD68F13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810-D657-48E7-AA66-017016A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ED7D-79D2-4A08-9330-AD87BE4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B705-A686-4991-8562-4C5DD93E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F64-3625-4705-811D-B071CE4E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98C-A16F-49B2-84FB-01F6B83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764-BD3D-4611-9378-DE4E3D4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9EA-806E-4E25-9A91-240D4A8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193-204A-422D-AE5A-6A2F38E7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470-42A7-4D97-A3ED-EE1AF52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53C-F4DE-43D7-9C45-409AE60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F4C-1AF9-42BA-B4D7-7172814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C9EB-2CAB-40E0-A247-E9FFDE7D9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BFE8-CCA6-4B7E-A1EE-453EB8A22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D06662_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327040" cy="2210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43000" y="1523880"/>
            <a:ext cx="662940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CCORDO  DI  SCHENG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600200"/>
            <a:ext cx="9282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i sensi della normativa Schengen il permesso 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oggiorno rilasciato dalla Questura a seguito di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Visto per soggiorno di lunga durata consente a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traniero di entrare e uscire dallo Spaz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chengen per un periodo non superiore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90 giorni per semes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69440" y="853920"/>
            <a:ext cx="57326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ge Bossi-Fini (L. n. 189/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1360" y="2021040"/>
            <a:ext cx="8189280" cy="157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de che per motivi di sicurezza o di ordine pub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diniego del visto di ingresso per soggiorni di breve dur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DEBBA ESSERE MOTIV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" y="3925800"/>
            <a:ext cx="8122320" cy="2684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clandestini vengono espulsi immediata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stranieri con permesso di soggiorno scaduto dev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sciare il Paese entro 15 giorni; in caso di inadempien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è previsto il REATO DI CLANDESTINITA’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 il processo per direttiss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523880"/>
            <a:ext cx="2260440" cy="482760"/>
          </a:xfrm>
          <a:custGeom>
            <a:avLst/>
            <a:gdLst/>
            <a:ahLst/>
            <a:rect l="l" t="t" r="r" b="b"/>
            <a:pathLst>
              <a:path w="1424" h="304">
                <a:moveTo>
                  <a:pt x="328" y="16"/>
                </a:moveTo>
                <a:cubicBezTo>
                  <a:pt x="136" y="0"/>
                  <a:pt x="0" y="120"/>
                  <a:pt x="136" y="160"/>
                </a:cubicBezTo>
                <a:cubicBezTo>
                  <a:pt x="272" y="200"/>
                  <a:pt x="952" y="240"/>
                  <a:pt x="1144" y="256"/>
                </a:cubicBezTo>
                <a:cubicBezTo>
                  <a:pt x="1336" y="272"/>
                  <a:pt x="1424" y="304"/>
                  <a:pt x="1288" y="256"/>
                </a:cubicBezTo>
                <a:cubicBezTo>
                  <a:pt x="1152" y="208"/>
                  <a:pt x="520" y="32"/>
                  <a:pt x="328" y="16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3581280"/>
            <a:ext cx="3111480" cy="241560"/>
          </a:xfrm>
          <a:custGeom>
            <a:avLst/>
            <a:gdLst/>
            <a:ahLst/>
            <a:rect l="l" t="t" r="r" b="b"/>
            <a:pathLst>
              <a:path w="1960" h="152">
                <a:moveTo>
                  <a:pt x="1008" y="48"/>
                </a:moveTo>
                <a:cubicBezTo>
                  <a:pt x="848" y="72"/>
                  <a:pt x="0" y="136"/>
                  <a:pt x="96" y="144"/>
                </a:cubicBezTo>
                <a:cubicBezTo>
                  <a:pt x="192" y="152"/>
                  <a:pt x="1288" y="112"/>
                  <a:pt x="1584" y="96"/>
                </a:cubicBezTo>
                <a:cubicBezTo>
                  <a:pt x="1880" y="80"/>
                  <a:pt x="1960" y="64"/>
                  <a:pt x="1872" y="48"/>
                </a:cubicBezTo>
                <a:cubicBezTo>
                  <a:pt x="1784" y="32"/>
                  <a:pt x="1200" y="0"/>
                  <a:pt x="1056" y="0"/>
                </a:cubicBezTo>
                <a:cubicBezTo>
                  <a:pt x="912" y="0"/>
                  <a:pt x="1168" y="24"/>
                  <a:pt x="1008" y="4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21480000">
            <a:off x="532800" y="1066680"/>
            <a:ext cx="7882920" cy="314604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he cosa è successo di recente nell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nostra Regione a seguito deg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ccordi di Scheng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360" y="304920"/>
            <a:ext cx="7854120" cy="2806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 stato aperto, nell’ex caserma Polonio d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sca d’Isonzo, il C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entro di Permanenza Temporane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gli immigr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4120" y="4343400"/>
            <a:ext cx="6697440" cy="1169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apertura ha provocato manifestazioni 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rarietà anche vio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200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6160" y="1371600"/>
            <a:ext cx="7666560" cy="2803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bbiamo raccolto alcu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rgomentazioni c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otivano questa contrariet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flipH="1">
            <a:off x="3084480" y="4328280"/>
            <a:ext cx="23097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2760" y="1066680"/>
            <a:ext cx="826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glienza è disponibilità e partecipazion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 è anche essere in grado di sosten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roblematiche che essa compo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o Bonan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7440" y="801720"/>
            <a:ext cx="8163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oi non siamo aprioristicamente contrari ai C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ecessari a svolgere un’azione di contrasto 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enomeno della clandestinità, condizione fiss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gli accordi di Schengen. Ciò non toglie c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iteniamo che vadano costruiti e gestiti in modo 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ispettare i diritti umani, cosa che non sempre succ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 che viene messa in dubbio da chi ha visitato ques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trutture, ravvisandovi similitudini con il reg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arcerari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ICCARDO  I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32200" y="903240"/>
            <a:ext cx="3768120" cy="1169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I PENSIAMO C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4640" y="2438280"/>
            <a:ext cx="7811280" cy="3764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rebbe giusto affrontare il problema de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migrazione con provvedimenti anche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vello internazionale per fermare soprattut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mercanti di  schiavi sfruttatori d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migrazione clandes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BD04924_" descr=""/>
          <p:cNvPicPr/>
          <p:nvPr/>
        </p:nvPicPr>
        <p:blipFill>
          <a:blip r:embed="rId1"/>
          <a:stretch/>
        </p:blipFill>
        <p:spPr>
          <a:xfrm>
            <a:off x="5257800" y="0"/>
            <a:ext cx="2525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9920" y="838080"/>
            <a:ext cx="3649320" cy="1632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NOI PENSIAMO 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70640" y="3733920"/>
            <a:ext cx="6505200" cy="181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rebbe altrettanto giusto interven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ddove nasce l’immigr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ché la miseria è gra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BD04924_" descr=""/>
          <p:cNvPicPr/>
          <p:nvPr/>
        </p:nvPicPr>
        <p:blipFill>
          <a:blip r:embed="rId1"/>
          <a:stretch/>
        </p:blipFill>
        <p:spPr>
          <a:xfrm>
            <a:off x="4724280" y="0"/>
            <a:ext cx="25257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3400" y="152280"/>
            <a:ext cx="8253360" cy="41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’IMMIGRAZIONE E’ UN FENOMEN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MONDIALE E L’ACCOGLIENZA E’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DIRITTO – DOVER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ENTRAMBE POSSONO ESS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GOLATE MA NON IMPED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BD05584_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762120"/>
            <a:ext cx="2606400" cy="825480"/>
          </a:xfrm>
          <a:prstGeom prst="rect">
            <a:avLst/>
          </a:prstGeom>
          <a:solidFill>
            <a:srgbClr val="00ff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O DI SCHE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5280" y="42228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 GIUGNO 19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533520"/>
            <a:ext cx="2438280" cy="157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24080"/>
            <a:ext cx="28954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tadina lussemburghese dove è stato firmato l’accor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75000" y="3497400"/>
            <a:ext cx="226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40384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ire la libera circolazione delle persone e coordinare la lotta al traffico di armi e stupeface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752480"/>
            <a:ext cx="485640" cy="1214640"/>
          </a:xfrm>
          <a:prstGeom prst="upDownArrow">
            <a:avLst>
              <a:gd name="adj1" fmla="val 50000"/>
              <a:gd name="adj2" fmla="val 4979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838080"/>
            <a:ext cx="5638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lasse  2  a  ige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tcg  MARCHETT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mona del friul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518148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.s. 2005/06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3240" y="320760"/>
            <a:ext cx="633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ZIONE  DI  SCHE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133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4040" y="1905120"/>
            <a:ext cx="2721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 AN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ITA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267080"/>
            <a:ext cx="6934320" cy="157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venzione è un accordo tra St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può diventare un atto interna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valore di legge per lo Stato che lo rati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914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5240" y="304920"/>
            <a:ext cx="35427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O  OPER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1828800"/>
            <a:ext cx="30495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  MARZO 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6920" y="2666880"/>
            <a:ext cx="2160360" cy="3180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G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SEMBUR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N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G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OGA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1430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590920"/>
            <a:ext cx="1067040" cy="235728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412560 h 2357280"/>
              <a:gd name="textAreaBottom" fmla="*/ 1709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05320" y="609480"/>
            <a:ext cx="327636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581280"/>
            <a:ext cx="7554960" cy="11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a il problema del controllo di 9874 k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 frontiere di cui 7996 frontiera marittim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2416320"/>
            <a:ext cx="4037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TRA  PIU’  TAR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914400"/>
            <a:ext cx="1266840" cy="1752480"/>
          </a:xfrm>
          <a:custGeom>
            <a:avLst/>
            <a:gdLst>
              <a:gd name="textAreaLeft" fmla="*/ 169560 w 1266840"/>
              <a:gd name="textAreaRight" fmla="*/ 1097280 w 126684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6670_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361240" y="380880"/>
            <a:ext cx="37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l  1  aprile 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7520" y="1295280"/>
            <a:ext cx="6496200" cy="4597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O  OPERATIVO  ANCHE  IN  IT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05740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971800"/>
            <a:ext cx="8218440" cy="327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tutti viene garantita la libera circolazione e non  ci sono controlli alle  frontiere interne allo Spazio Sche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ontrolli sono invece previsti alle Frontiere esterne dello Spazio Schengen e vengono effettuati grazie al    collegamento con il C-SIS (Sistema Informatico Scheng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-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7880" y="1981080"/>
            <a:ext cx="7864560" cy="2466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ca dati situata a Strasburgo contenente i 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i alle persone ricercate o indesiderate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alcune categorie, “cose” come le aut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nconote o i documenti rub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359320"/>
            <a:ext cx="9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ME  VENGONO  ORGANIZZATI  I  CONTROLL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2440" y="725400"/>
            <a:ext cx="15692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.R.E.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320" y="649440"/>
            <a:ext cx="2533680" cy="1015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ITTO 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GU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64160" y="649440"/>
            <a:ext cx="2599200" cy="1015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ITTO 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080" y="2362320"/>
            <a:ext cx="2233440" cy="3288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fficio della Poliz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 in ognun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li Stati firmat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 interviene dop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 la persona è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a identific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nte la ban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i 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7320" y="2362320"/>
            <a:ext cx="2765520" cy="3288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ilità per 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ze di polizia 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are l’insegu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o oltre front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 una persona colta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ranza di re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za bisogno di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izzazione preven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2960" y="2362320"/>
            <a:ext cx="2576520" cy="454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ilità per le For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 polizia di prosegui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tre frontiera particol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i di attiv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stigativa senz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ogno di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izz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entiva nei confro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 persone sospet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 aver commesso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295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6765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17524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3840" y="1523880"/>
            <a:ext cx="8078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o straniero, non appartenente allo spaz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chengen, per entrare nel territorio del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pubblica Italiana, ha bisogno di un Vis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he consta di  apposita “vignetta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pplicata sul passapor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20:20:23Z</dcterms:created>
  <dc:creator>RENZA</dc:creator>
  <dc:description/>
  <dc:language>en-US</dc:language>
  <cp:lastModifiedBy>BELLINA ARIANNA</cp:lastModifiedBy>
  <dcterms:modified xsi:type="dcterms:W3CDTF">2006-03-14T17:17:06Z</dcterms:modified>
  <cp:revision>18</cp:revision>
  <dc:subject/>
  <dc:title>ACCORDO DI SCHENGEN</dc:title>
</cp:coreProperties>
</file>