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876F-1EAE-4B6E-8BFB-0EBF469A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E203-DA46-47CF-835D-BA70E601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94ED-66B8-4BCF-A3A3-A11ACF4A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A021-177C-43A9-8720-02AE8833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3260-ECE1-4A8A-BC2C-98D88829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B83A-585A-4171-9DDB-ED29A466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7632-3F01-4730-B9F1-A4409DC8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ACF0-31A9-4CD8-8FEC-5D29E9E9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C191-B556-4366-8696-835617D8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D674-2996-446A-9300-7A4C2102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3FA0-A54D-45EA-8164-27206EA1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13D3-F0FB-4A88-ADE0-4E7E9E6B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A65F-C201-4E02-B52B-7972DFB3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B462-E53E-4007-BA9F-81359F95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A85F-DF91-4267-900D-F8CFD8BD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3205-9D50-411E-9EA3-AF274ED1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3CBF-8C98-48F4-9ACA-491FA3F1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DFF2B-7ABB-4C46-989C-C368A0F8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E2F04-51BF-49D1-8472-2A1E6316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37A8D-7CAE-4FF2-A1FA-FB760DB1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0A4EE-06E8-4755-844E-B1C82ED1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1DBE5-69BC-4DFF-AA56-709C1588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D02-BE04-40C0-A10D-929CB4F7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FB0FC-A06C-4144-83D5-0C0B14A7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D64D-E62E-4985-A953-B292197A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855F6-0109-47BC-AE41-8306F486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DAA24-5DAD-4D47-BD4A-E07E4A5D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E618A-4C86-4016-9778-48943FD5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DE928-2523-420E-95F9-8DF6EB68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78F59-A8D9-496B-A759-BEB5B4D6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C8C-4762-4C16-8051-100B2754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36FD-6F38-49D3-85B4-FE2520CC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E5FB-94FB-4AAA-8535-AA1D4D53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B0FC-9367-4474-831D-5FC61060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D547-C8EB-4E95-87EE-B4A9AD75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C06-BF1E-4FFB-87D2-0D409BDB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55E8-EAF1-4FD2-AF8E-5B93A0B50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4F57-6F8A-4180-8378-AE064079A0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9DD9-7DDE-44BE-BBFF-DE6F5889AB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it/imgres?imgurl=http://www.confindustria.campania.it/stemmaUE.gif&amp;imgrefurl=http://www.confindustria.campania.it/vademPremessa.htm&amp;h=112&amp;w=172&amp;sz=2&amp;tbnid=fiPfgBYdllIizM:&amp;tbnh=61&amp;tbnw=94&amp;hl=it&amp;start=8&amp;prev=/images%3Fq%3Dstemma%2BU.E.%26svnum%3D10%26hl%3Dit%26lr%3D%26sa%3D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92160" y="549360"/>
            <a:ext cx="923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Licei Sperimentali e Istituto Magis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G. A. Pujati” Sac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asse 2 A Liceo Socio-Psico-Pedago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92160" y="3695760"/>
            <a:ext cx="923616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PROGETTO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Arial"/>
              </a:rPr>
              <a:t>La Turchia 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Arial"/>
              </a:rPr>
              <a:t>U.E.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>
            <a:hlinkClick r:id="rId2"/>
          </p:cNvPr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3492360" y="2209680"/>
            <a:ext cx="2087640" cy="1363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400"/>
                            </p:stCondLst>
                            <p:childTnLst>
                              <p:par>
                                <p:cTn id="1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DomCasual BT"/>
              </a:rPr>
              <a:t>Processo di avvicinamento</a:t>
            </a:r>
            <a:br>
              <a:rPr sz="4800"/>
            </a:br>
            <a:r>
              <a:rPr b="0" lang="en-US" sz="4800" spc="-1" strike="noStrike">
                <a:solidFill>
                  <a:srgbClr val="0000cc"/>
                </a:solidFill>
                <a:latin typeface="DomCasual BT"/>
              </a:rPr>
              <a:t>UE/Turch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9120" y="2025720"/>
            <a:ext cx="8013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echnical"/>
              </a:rPr>
              <a:t>1963:</a:t>
            </a:r>
            <a:r>
              <a:rPr b="1" lang="en-US" sz="1800" spc="-1" strike="noStrike">
                <a:solidFill>
                  <a:srgbClr val="000000"/>
                </a:solidFill>
                <a:latin typeface="Technical"/>
              </a:rPr>
              <a:t> creazione di un’unione doganale con la comunità europ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echnical"/>
              </a:rPr>
              <a:t>1987:</a:t>
            </a:r>
            <a:r>
              <a:rPr b="1" lang="en-US" sz="1800" spc="-1" strike="noStrike">
                <a:solidFill>
                  <a:srgbClr val="000000"/>
                </a:solidFill>
                <a:latin typeface="Technical"/>
              </a:rPr>
              <a:t> l’UE respinge una richiesta formale di adesione a causa della lontananza della Turchia dal modello europ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echnical"/>
              </a:rPr>
              <a:t>1996:</a:t>
            </a:r>
            <a:r>
              <a:rPr b="1" lang="en-US" sz="1800" spc="-1" strike="noStrike">
                <a:solidFill>
                  <a:srgbClr val="000000"/>
                </a:solidFill>
                <a:latin typeface="Technical"/>
              </a:rPr>
              <a:t> seconda richiesta ufficiale di adesione respin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echnical"/>
              </a:rPr>
              <a:t>1999:</a:t>
            </a:r>
            <a:r>
              <a:rPr b="1" lang="en-US" sz="1800" spc="-1" strike="noStrike">
                <a:solidFill>
                  <a:srgbClr val="000000"/>
                </a:solidFill>
                <a:latin typeface="Technical"/>
              </a:rPr>
              <a:t> il Consiglio Europeo di Helsinki concede alla Turchia lo statuto di Paese candid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echnical"/>
              </a:rPr>
              <a:t>16 dicembre 2004 :</a:t>
            </a:r>
            <a:r>
              <a:rPr b="1" lang="en-US" sz="1800" spc="-1" strike="noStrike">
                <a:solidFill>
                  <a:srgbClr val="000000"/>
                </a:solidFill>
                <a:latin typeface="Technical"/>
              </a:rPr>
              <a:t> il Parlamento Europeo esprime voto favorevole all’avvio dei negoziati di adesione con la Turchia a condizione che il Governo di Ankara riesca ad adeguarsi agli standard europei di democraticità e tutela dei diritti um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echnical"/>
              </a:rPr>
              <a:t>3 ottobre 2005:</a:t>
            </a:r>
            <a:r>
              <a:rPr b="1" lang="en-US" sz="1800" spc="-1" strike="noStrike">
                <a:solidFill>
                  <a:srgbClr val="000000"/>
                </a:solidFill>
                <a:latin typeface="Technical"/>
              </a:rPr>
              <a:t> avvio negozia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3610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echnical"/>
              </a:rPr>
              <a:t>Per l’U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0066ff"/>
              </a:buClr>
              <a:buFont typeface="Technic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echnical"/>
              </a:rPr>
              <a:t>la Turchia è a prevalenza islamic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echnic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chnical"/>
              </a:rPr>
              <a:t>economia più stabilizz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echnic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chnical"/>
              </a:rPr>
              <a:t>la Turchia come via di approvvigionament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echnical"/>
              </a:rPr>
              <a:t>energetici nel prossimo futur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echnic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chnical"/>
              </a:rPr>
              <a:t>bonus di crescita dei Paesi sovietic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echnic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chnical"/>
              </a:rPr>
              <a:t>c’è un potenziale di scambi (e quindi d’investimento) ancora non sfruttato tra UE e Turchi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echnical"/>
              </a:rPr>
              <a:t>Per la Turch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echnic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chnical"/>
              </a:rPr>
              <a:t>un ricco mercato integrato e istituzioni solid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echnic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echnical"/>
              </a:rPr>
              <a:t>investimenti diretti dall’estero favori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83120" y="189000"/>
            <a:ext cx="129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DomCasual BT"/>
              </a:rPr>
              <a:t>I 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30840" y="189000"/>
            <a:ext cx="218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DomCasual BT"/>
              </a:rPr>
              <a:t>I CO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59280" y="1125360"/>
            <a:ext cx="396072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Technic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echnical"/>
              </a:rPr>
              <a:t>La Turchia è a prevalenza islami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Technic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echnic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chnical"/>
              </a:rPr>
              <a:t>la Turchia è geograficamente fuori dall’Europ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echnic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echnic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chnical"/>
              </a:rPr>
              <a:t>la questione curd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echnic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echnic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chnical"/>
              </a:rPr>
              <a:t>la Turchia è in crescita demografi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echnic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echnic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chnical"/>
              </a:rPr>
              <a:t>in passato vi furono guerre e invasioni turche in Europ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echnic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echnic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echnical"/>
              </a:rPr>
              <a:t>dal punto di vista economico, la Turchia è un Paese molto pov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6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DomCasual BT"/>
              </a:rPr>
              <a:t>Il nostro sondagg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9120" y="4141800"/>
            <a:ext cx="80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Numero persone intervistate: 50 (campione casu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097160" y="3316320"/>
          <a:ext cx="4651560" cy="320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7160" y="3316320"/>
                    <a:ext cx="465156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411280" y="4494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DomCasual BT"/>
              </a:rPr>
              <a:t>S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24000" y="333360"/>
          <a:ext cx="5256000" cy="2863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33360"/>
                    <a:ext cx="525600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529960" y="1298520"/>
            <a:ext cx="11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DomCasual BT"/>
              </a:rPr>
              <a:t>ETA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9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000"/>
                            </p:stCondLst>
                            <p:childTnLst>
                              <p:par>
                                <p:cTn id="9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08000" y="115920"/>
          <a:ext cx="5400720" cy="281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5920"/>
                    <a:ext cx="540072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5580360" y="1009800"/>
            <a:ext cx="34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DomCasual BT"/>
              </a:rPr>
              <a:t>AREA GEOGRAF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851280" y="3098880"/>
          <a:ext cx="5113440" cy="3643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3098880"/>
                    <a:ext cx="511344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99880" y="4330800"/>
            <a:ext cx="343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DomCasual BT"/>
              </a:rPr>
              <a:t>TITOLO DI 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2000"/>
                            </p:stCondLst>
                            <p:childTnLst>
                              <p:par>
                                <p:cTn id="9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2000"/>
                            </p:stCondLst>
                            <p:childTnLst>
                              <p:par>
                                <p:cTn id="9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550800" y="452520"/>
          <a:ext cx="4300560" cy="298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452520"/>
                    <a:ext cx="4300560" cy="29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4859280" y="333360"/>
            <a:ext cx="3117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DomCasual BT"/>
              </a:rPr>
              <a:t>E’ a conoscenza del fatto che l’UE ha avviato i negoziati di adesione della Turch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419640" y="3573360"/>
          <a:ext cx="5459400" cy="2975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3573360"/>
                    <a:ext cx="5459400" cy="29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03120" y="4611600"/>
            <a:ext cx="3116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DomCasual BT"/>
              </a:rPr>
              <a:t>Lei è favorevole o contrario all’entrata della Turchia nell’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684360" y="1536840"/>
          <a:ext cx="7848360" cy="49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36840"/>
                    <a:ext cx="7848360" cy="49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0" y="62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DomCasual BT"/>
              </a:rPr>
              <a:t>Perché è contrari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DomCasual BT"/>
              </a:rPr>
              <a:t>Conclus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3120" y="1360440"/>
            <a:ext cx="8516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chnical"/>
              </a:rPr>
              <a:t>La Turchia oltre a costituire una finestra verso le difficili questioni medio-orientali (conflitto israeliani e palestinesi, guerra in Iraq, Iran) può rappresentare per l’Europa la possibilità di un dialogo tra culture profondamente diverse quindi un’occasione di pace e di cooperazi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echnical"/>
              </a:rPr>
              <a:t>L’Unione Europea non può sprecare questa opportunità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0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31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2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DomCasual BT"/>
              </a:rPr>
              <a:t>Da dove nasce l’Unione Europe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3480" y="1576440"/>
            <a:ext cx="808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chnical"/>
              </a:rPr>
              <a:t>La costruzione dell’Unione Europea è un procedimento graduale e complesso, che dura ormai da mezzo secolo e non è ancora conclu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9480" y="2492280"/>
            <a:ext cx="772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chnical"/>
              </a:rPr>
              <a:t>Alla fine della seconda guerra mondiale, l’Europa era stremata dal conflitto e doveva avviare una rapida ricostruzione industri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02080" y="3621240"/>
            <a:ext cx="4189320" cy="30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echnical"/>
              </a:rPr>
              <a:t>I “padri fondatori” dell’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66ff"/>
              </a:buClr>
              <a:buFont typeface="Technic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echnic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chnical"/>
              </a:rPr>
              <a:t>Alcide De Gaspe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echnic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echnic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chnical"/>
              </a:rPr>
              <a:t>Konrad Adenau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echnic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echnic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chnical"/>
              </a:rPr>
              <a:t>Paul H. C. Spa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echnic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echnic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chnical"/>
              </a:rPr>
              <a:t>Robert Schu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71640" y="7920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DomCasual BT"/>
              </a:rPr>
              <a:t>LE TAPPE FONDAMENTALI DELL’ UNIONE EURO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944280"/>
            <a:ext cx="820728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echnical"/>
              </a:rPr>
              <a:t>1951   Comunità Economica del Carbone e dell’Acciaio (CECA): Germania, Francia, Italia, Paesi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Technical"/>
              </a:rPr>
              <a:t>           Bassi, Belgio e Lussembur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echnical"/>
              </a:rPr>
              <a:t>1957   Trattati di Roma istituiscono la Comunità Economica Europea (CEE). Nasce l’Europa dei 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echnical"/>
              </a:rPr>
              <a:t>1973   Ingresso nella CEE di Danimarca, Irlanda e Regno Unito. Nasce l’Europa dei 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echnical"/>
              </a:rPr>
              <a:t>1981   Ingresso nella CEE della Grecia. Nasce l’Europa dei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echnical"/>
              </a:rPr>
              <a:t>1986   Ingresso nella CEE della Spagna e Portogallo. Nasce l’Europa dei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Technical"/>
              </a:rPr>
              <a:t>1987   Entrata in vigore dell’Atto Unico Europeo che prevede la realizzazione del mercato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Technical"/>
              </a:rPr>
              <a:t>          un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echnical"/>
              </a:rPr>
              <a:t>1990   Dopo l’unificazione tedesca entrano i cinque Laender dell’ex Germania Orient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Technical"/>
              </a:rPr>
              <a:t>1993   Entrata in vigore del Trattato di Maastricht che prevede l’istituzione dell’Unione Europea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Technical"/>
              </a:rPr>
              <a:t>           e la creazione di un'unione economica e monet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Technical"/>
              </a:rPr>
              <a:t>1995   Ingresso nell’Unione Europea di Austria, Finlandia e Svezia. Nasce l’Europa dei 15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echnical"/>
              </a:rPr>
              <a:t>1998   Austria, Belgio, Finlandia, Francia, Germania, Irlanda, Italia, Lussemburgo, Paesi Bassi,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echnical"/>
              </a:rPr>
              <a:t>           Portogallo e Spagna danno vita alla Banca Centrale Europea ed adottano la moneta un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Technical"/>
              </a:rPr>
              <a:t>2002   Messa in circolazione delle monete e delle banconote in eur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Technical"/>
              </a:rPr>
              <a:t>2004   Il primo maggio 2004 l’Europa accoglie dieci nuovi paesi nell’Unione: Cipro, Malta,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Technical"/>
              </a:rPr>
              <a:t>          Estonia, Lettonia, Lituania, Polonia, Repubblica Ceca, Slovacchia, Slovenia ed Ungheria.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Technical"/>
              </a:rPr>
              <a:t>          Nasce l’Europa dei 2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DomCasual BT"/>
              </a:rPr>
              <a:t>I CRITERI  DI ADESI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echnical"/>
              </a:rPr>
              <a:t>MAASTRICHT, 1993, art. 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chnical"/>
              </a:rPr>
              <a:t>Rispetto dei diritti dell’uomo e delle libertà fondamenta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chnical"/>
              </a:rPr>
              <a:t>Rispetto dello stato di dirit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chnical"/>
              </a:rPr>
              <a:t>Rispetto dei principi di libertà e democraz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echnical"/>
              </a:rPr>
              <a:t>CRITERI DI COPENAGHEN, 19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chnical"/>
              </a:rPr>
              <a:t>Criterio poli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chnical"/>
              </a:rPr>
              <a:t>Criterio econom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chnical"/>
              </a:rPr>
              <a:t>Criterio giurid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DomCasual BT"/>
              </a:rPr>
              <a:t>IL CAMMINO VERSO L’ADESI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51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chnic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echnical"/>
              </a:rPr>
              <a:t>Per poter aderire all’UE i nuovi stati membri hanno dovu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echnical"/>
              </a:rPr>
              <a:t>adottare il cosiddetto acquis communautai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chnical"/>
              </a:rPr>
              <a:t>rendere più efficienti le strutture burocratiche e amministrativ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echnical"/>
              </a:rPr>
              <a:t>aumentare la sicurezza alle frontiere orientali che rappresentano i confini esterni dell’Un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7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DomCasual BT"/>
              </a:rPr>
              <a:t>I vantaggi dell’allargamen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chnical"/>
              </a:rPr>
              <a:t>Un mercato più vasto e maggiormente integrato stimola la crescita economica in tutti i Paesi europ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echnical"/>
              </a:rPr>
              <a:t>Possibilità per i nuovi Stati di accedere ai finanziamenti 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chnical"/>
              </a:rPr>
              <a:t>Eliminazione di barriere doganali e contingentali che ostacolano le esportazio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echnical"/>
              </a:rPr>
              <a:t>Estensione all’intero continente europeo di pace e sicurezza durevo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echn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chnical"/>
              </a:rPr>
              <a:t>Garanzia di libertà e rispetto dei diritti fondamenta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DomCasual BT"/>
              </a:rPr>
              <a:t>GLI INTERROGATIV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5556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chnical"/>
              </a:rPr>
              <a:t>-    Afflusso di manodopera a basso cos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chnical"/>
              </a:rPr>
              <a:t>-    Aumento dell’immigrazi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chnical"/>
              </a:rPr>
              <a:t>-    Impatto prodotto dall’introduzione di standard ambientali meno rigid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chnical"/>
              </a:rPr>
              <a:t>-    Capacità economica di competere con economie più sol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echnical"/>
              </a:rPr>
              <a:t>L’UE ha previ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echnical"/>
              </a:rPr>
              <a:t>meccanismi di salvaguardia per far fronte ad eventuali conseguenze  imprevis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echnical"/>
              </a:rPr>
              <a:t>misure transitorie che spalmano su un periodo pluriennale l’impatto di elementi cruciali(es: la libera circolazione dei lavoratori o l’acquisizione  di proprietà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6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7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DomCasual BT"/>
              </a:rPr>
              <a:t>I Paesi che attendono di entra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7840" y="1908000"/>
            <a:ext cx="8156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echnical"/>
              </a:rPr>
              <a:t>2007:</a:t>
            </a:r>
            <a:r>
              <a:rPr b="0" lang="en-US" sz="3600" spc="-1" strike="noStrike">
                <a:solidFill>
                  <a:srgbClr val="ff00ff"/>
                </a:solidFill>
                <a:latin typeface="Technic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echnical"/>
              </a:rPr>
              <a:t>data “obiettiva” per l’entrata della Romania e della Bulgar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echnical"/>
              </a:rPr>
              <a:t>Dicembre 2004:</a:t>
            </a:r>
            <a:r>
              <a:rPr b="0" lang="en-US" sz="3600" spc="-1" strike="noStrike">
                <a:solidFill>
                  <a:srgbClr val="ff00ff"/>
                </a:solidFill>
                <a:latin typeface="Technic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echnical"/>
              </a:rPr>
              <a:t>l’UE ha deciso di approvare l’apertura dei negoziati per l’ingresso della Turch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00400" y="404640"/>
            <a:ext cx="25272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DomCasual BT"/>
              </a:rPr>
              <a:t>LA TURCH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mappa"/>
          <p:cNvPicPr/>
          <p:nvPr/>
        </p:nvPicPr>
        <p:blipFill>
          <a:blip r:embed="rId1"/>
          <a:stretch/>
        </p:blipFill>
        <p:spPr>
          <a:xfrm>
            <a:off x="2266920" y="1922400"/>
            <a:ext cx="4465800" cy="2239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76200" y="857160"/>
            <a:ext cx="203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chnical"/>
              </a:rPr>
              <a:t>Circa il 99% della popolazione è musul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7840" y="4484520"/>
            <a:ext cx="2755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chnical"/>
              </a:rPr>
              <a:t>L'Islam cessò di essere religione di stato nel 1928, quando la Turchia diventò una Repubblica parlamentare la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15120" y="3500280"/>
            <a:ext cx="2828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chnical"/>
              </a:rPr>
              <a:t>L’economia ha risentito dell’instabilità politica e dell’estesa corruzione del sistema politico e finanzi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72360" y="784080"/>
            <a:ext cx="230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chnical"/>
              </a:rPr>
              <a:t>Il valore delle importazioni supera quello delle esport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84720" y="5392800"/>
            <a:ext cx="282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echnical"/>
              </a:rPr>
              <a:t>Il 3% del suo territorio si trova nel continente europ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16:45:57Z</dcterms:created>
  <dc:creator> </dc:creator>
  <dc:description/>
  <dc:language>en-US</dc:language>
  <cp:lastModifiedBy>utente</cp:lastModifiedBy>
  <dcterms:modified xsi:type="dcterms:W3CDTF">2006-03-13T09:14:17Z</dcterms:modified>
  <cp:revision>68</cp:revision>
  <dc:subject/>
  <dc:title>Breve storia dell’Unione Europea</dc:title>
</cp:coreProperties>
</file>