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986-79E9-4AC3-B119-E68EB7CB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0AC-AE9D-4459-8F50-1522C72D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C1B-B9E6-4CC5-9304-01E1F23C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6E3-63BB-49B9-98DF-F40C29D4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865-D098-4FC1-A192-8EE09235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EF3-5D26-4004-A1FF-ABE09BF2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6D1-EF80-4F36-BC1E-FCBA1B45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E49-4A9D-4702-8A43-158E4129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15C-F5D4-47DA-8261-93239798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E94-E743-4600-B1B7-268A2B33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D3F-07D8-48C0-AC10-94FC8AE5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287-9693-48D3-ABBE-E5CF81DC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6F7D-7250-435B-9C52-5FBF4C276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99ff"/>
              </a:solidFill>
              <a:latin typeface="Elepha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2666880"/>
            <a:ext cx="68677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64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tencil"/>
              </a:rPr>
              <a:t>EUROPA   &amp;   GIOVANI</a:t>
            </a:r>
            <a:endParaRPr b="0" lang="en-US" sz="5400" spc="1" strike="noStrike">
              <a:ln w="64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tencil"/>
              <a:ea typeface="Stenci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ogramma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LEONARDO DA VIN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stiene il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gliora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l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vilup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a formazione professionale in Europa attraverso l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mazione  in alternanza e apprendista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ordina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ero del lavoro e delle politiche soc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ero dell’istruzione, UNI e rice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ogram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GIOVENTU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gramma di educazione non form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e promuove progetti europei di mobilità giovanile,l’apprendimento interculturale e le iniziative locali dei giovani di età compresa tra i 15 e i 25 an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biettivi program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GIOVENTU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re dall’interesse espresso dai partecip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rontarsi e approfondire  tematiche scelte dai gruppi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zzismo, lotta all’uso di sostanze stupefacenti, arte, musica 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ogramma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GIOVENTU’: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i lo attu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zie Nazionali GIOVENTU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 il coordinamento della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missione Europe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 sono responsabili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ulenz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ganizzazi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ordin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ICHIARAZIONE DI ROTTERDAM sulla GIOVENTU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27-28 novembre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biettiv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DICHIARAZIONE DI ROTTER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nire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ispirazi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 Consiglio, ai direttori generali della Gioventù dell’Unione Europea e della Commissione Europ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ERVISTA ad ALE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D: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quando e dove sei an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R: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a ottobre 2001 a febbraio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Berl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D: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n quale proget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R: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ra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21932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79560" y="0"/>
            <a:ext cx="5403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PERCHÉ A VOLTE GLI ESAMI DATI ALL’ESTERO NON VENGONO RICONOSCIUTI IN ITAL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Arial"/>
              </a:rPr>
              <a:t>LICEI SPERIMENTALI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Arial"/>
              </a:rPr>
              <a:t>“G. A. PUJAT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CLASSE 5 A BROC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Corso socio-psico-pedago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1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Elephant"/>
              </a:rPr>
              <a:t>INTRODU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7929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ONE EUROP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77929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 amministrazione govern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77929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urre/eliminare i conflitti attraverso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MEDIAZIONE INTERCULT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79292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77929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Partecipazione attiva e consapevole attraverso attività educative tra studenti appartenenti agli Stati memb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6858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Elephant"/>
              </a:rPr>
              <a:t>PROGRAM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676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COM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438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OCRATES / ERA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2004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LEONARDO  DA  VI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962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GIOVENTU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ogram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COMEN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Offerta formativ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per studenti e insegnanti attraverso la 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condivisione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di materiali, esperienze e approcci comuni alle situazioni di vita e cultura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biettivi program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COMEN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uovere l’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cultura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uover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ttività spor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c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unni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vantaggi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olare l’interesse x i valori comuni dell’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limpis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della società euro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ogram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SOCRATES/ERA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Contratto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università/ comunità europea che promuove attività di 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cooperazion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nternazionale nel settore dell’istruzione superi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zioni programma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SOCRATES/ERA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OM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zazione della mobilità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tudentes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PROG. INTENSIVI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 che riunisce docenti/studenti di diversi Paesi per un confronto didattico, lavorativo e speriment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zioni programma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RATES/ERA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99"/>
                </a:solidFill>
                <a:uFillTx/>
                <a:latin typeface="Arial"/>
              </a:rPr>
              <a:t>TS</a:t>
            </a: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it-IT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bilità del personale docente per brevi periodi di insegnamenti all’est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99"/>
                </a:solidFill>
                <a:uFillTx/>
                <a:latin typeface="Arial"/>
              </a:rPr>
              <a:t>ECTS</a:t>
            </a: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istema che facilita, tramite trasferimento crediti, il riconoscimento accademico tra istituzioni part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zioni programma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CRATES/ERA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SVILUPPO CONGIUNTO DI CURRICOLA UNIVERSITARI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vità di collaborazione tra  istituzioni europee al fine di modificare ed elaborare nuovi programmi didatt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t</cp:lastModifiedBy>
  <dcterms:modified xsi:type="dcterms:W3CDTF">2005-03-18T11:00:0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