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E6B-DA1D-467B-9C44-025B506B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3A1-5164-469C-9E87-55D560AD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7D9-EB67-40C8-972E-7D2C89ED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7B7-9113-40FC-90CA-6E196EA7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809D-6BEB-4CE0-919D-BA3A72DF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F00B-CA55-4387-8687-ADD60CDF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FCC0-C522-4BD4-BB10-6AFB636A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6C1D-C5A2-45B9-8190-3D07075D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5CA2-EC97-4412-8954-9C520064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8567-94FE-4F13-9C83-37D3AD24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1616-AC65-4282-8E9C-1A67C775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5DB-4EF4-4291-81C5-1FE2ECCD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8CA0-EE44-4226-B097-D83BC9A9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94A8-4E81-494B-9AC3-0E002746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93BB-80A4-418E-9AB2-70D7A82F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E2CA-E731-4C04-8D85-D8BDEBFD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5E02-E865-45B9-ADED-D446AA40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FBC-1780-45CE-834D-88083933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8AC-E0D2-4018-8F24-1C1539A7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1C0-0A3D-43E6-87D8-967AE4FF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526-66C7-4174-9858-8590B9FC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560-1263-4216-9D91-160C9874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6C7-4B57-4CB4-AC51-9BF5AAEE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03C-7CDD-4456-8C79-04418664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F544-5D71-42F9-9204-1C36D90EFB86}" type="slidenum">
              <a:rPr b="1" lang="it-IT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71EF-C8A6-4B4E-91E6-A972187E8F07}" type="slidenum"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4bb0fb"/>
                </a:solidFill>
                <a:latin typeface="Comic Sans MS"/>
              </a:rPr>
              <a:t>L’EUROPA</a:t>
            </a:r>
            <a:r>
              <a:rPr b="0" lang="it-IT" sz="4400" spc="-1" strike="noStrike">
                <a:solidFill>
                  <a:srgbClr val="4bb0fb"/>
                </a:solidFill>
                <a:latin typeface="Comic Sans MS"/>
              </a:rPr>
              <a:t> </a:t>
            </a:r>
            <a:r>
              <a:rPr b="0" lang="it-IT" sz="4400" spc="-1" strike="noStrike">
                <a:solidFill>
                  <a:srgbClr val="4bb0fb"/>
                </a:solidFill>
                <a:latin typeface="Comic Sans MS"/>
              </a:rPr>
              <a:t>NECESSA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bb0fb"/>
                </a:solidFill>
                <a:latin typeface="Comic Sans MS"/>
              </a:rPr>
              <a:t>I.T.A.S. GRAZIA DELEDDA CLASSE IVB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bb0fb"/>
                </a:solidFill>
                <a:latin typeface="Comic Sans MS"/>
              </a:rPr>
              <a:t>CORSO BIOLOGICO SANITARI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bb0fb"/>
                </a:solidFill>
                <a:latin typeface="Comic Sans MS"/>
              </a:rPr>
              <a:t>L’EUROPA NECESS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bb0fb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4bb0fb"/>
                </a:solidFill>
                <a:latin typeface="Comic Sans MS"/>
              </a:rPr>
              <a:t>L’Europa si presenta come occasione per attuare una politica sociale ed economica che, tenendo conto delle esigenze emerse con la globalizzazione, trovi un adeguato spazio politic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bb0fb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4bb0fb"/>
                </a:solidFill>
                <a:latin typeface="Comic Sans MS"/>
              </a:rPr>
              <a:t>Come ha osservato C.Galli in Spazi Politici , ormai gli stati nazionali non riescono a rispondere alle problematiche create dal rapido spostamento delle persone, delle merci e dei capitali; perciò, nell’Europa Unita si può  individuare uno spazio politico nel quale i diritti inviolabili e le ragioni stesse dell’identità europea, in primo luogo il principio di solidarietà ,  possano trovare fusion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bb0f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bb0f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bb0fb"/>
                </a:solidFill>
                <a:latin typeface="Comic Sans MS"/>
              </a:rPr>
              <a:t>LA DICHIARAZIONE UNIVERSALE DEI DIRITTI DELL’UO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bb0fb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4bb0fb"/>
                </a:solidFill>
                <a:latin typeface="Comic Sans MS"/>
              </a:rPr>
              <a:t>La  Dichiarazione Universale dei Diritti dell’Uomo  approvata dall’Assemblea generale dell’ONU il 10 dicembre 1948 riconosce a tutti gli uomini una serie di diritti fondamentali: libertà, dignità, uguaglianza senza distinzione di sesso, di razza, di religione, di opinione politica</a:t>
            </a:r>
            <a:r>
              <a:rPr b="0" lang="it-IT" sz="3200" spc="-1" strike="noStrike">
                <a:solidFill>
                  <a:srgbClr val="4bb0fb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bb0fb"/>
                </a:solidFill>
                <a:latin typeface="Comic Sans MS"/>
              </a:rPr>
              <a:t>LA COSTITUZIONE ITALIA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bb0fb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4bb0fb"/>
                </a:solidFill>
                <a:latin typeface="Comic Sans MS"/>
                <a:ea typeface="Times New Roman"/>
              </a:rPr>
              <a:t>Anche la Costituzione Italiana approvata all’unanimità dall’Assemblea Costituente ed entrata in vigore il 1 gennaio 1948 recepisce il  tema dei diritti fondamentali e recita: " La Repubblica riconosce e garantisce i diritti inviolabili dell’uomo, sia come singolo, sia nelle formazioni sociali ove si svolge la sua personalità ".</a:t>
            </a:r>
            <a:r>
              <a:rPr b="0" lang="it-IT" sz="3200" spc="-1" strike="noStrike">
                <a:solidFill>
                  <a:srgbClr val="4bb0f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bb0fb"/>
                </a:solidFill>
                <a:latin typeface="Comic Sans MS"/>
              </a:rPr>
              <a:t>LA COSTITUZIONE ITALIA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bb0fb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4bb0fb"/>
                </a:solidFill>
                <a:latin typeface="Comic Sans MS"/>
              </a:rPr>
              <a:t>Qualificare un diritto </a:t>
            </a:r>
            <a:r>
              <a:rPr b="1" lang="it-IT" sz="2800" spc="-1" strike="noStrike">
                <a:solidFill>
                  <a:srgbClr val="4bb0fb"/>
                </a:solidFill>
                <a:latin typeface="Comic Sans MS"/>
              </a:rPr>
              <a:t>" inviolabile " </a:t>
            </a:r>
            <a:r>
              <a:rPr b="0" lang="it-IT" sz="2800" spc="-1" strike="noStrike">
                <a:solidFill>
                  <a:srgbClr val="4bb0fb"/>
                </a:solidFill>
                <a:latin typeface="Comic Sans MS"/>
              </a:rPr>
              <a:t>significa che esso non può essere leso da nessun atto del pubblico potere, neppure da una legge di revisione costituzionale, e che comunque non può mai perdere la sua essenziale funzione di garanzia della personalità umana; perciò i diritti inviolabili sono imprescrittibili, irrinunciabili e inalienabili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bb0fb"/>
                </a:solidFill>
                <a:latin typeface="Comic Sans MS"/>
              </a:rPr>
              <a:t>LA CARTA DEI DIRITTI FONDAMENTALI DELL’UNIONE EUROP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bb0fb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4bb0fb"/>
                </a:solidFill>
                <a:latin typeface="Comic Sans MS"/>
              </a:rPr>
              <a:t>La carta dei diritti fondamentali approvata dall’Unione Europea rafforza e riafferma l’importanza di questi diritti, accomunando così in un abbraccio ideale tutti gli uomini d’Europa assieme a quelli di tutto il mond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bb0fb"/>
                </a:solidFill>
                <a:latin typeface="Comic Sans MS"/>
              </a:rPr>
              <a:t>LA COSTITUZIONE EUROP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bb0fb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4bb0fb"/>
                </a:solidFill>
                <a:latin typeface="Comic Sans MS"/>
              </a:rPr>
              <a:t>L’approvazione della Costituzione Europea viene a coronare un’azione iniziata fino dai primi anni di attività dell’Unione Europea.</a:t>
            </a:r>
            <a:r>
              <a:rPr b="1" lang="it-IT" sz="2400" spc="-1" strike="noStrike">
                <a:solidFill>
                  <a:srgbClr val="4bb0fb"/>
                </a:solidFill>
                <a:latin typeface="Comic Sans MS"/>
              </a:rPr>
              <a:t>" L’Unione Europea rispetta i diritti fondamentali quali sono garantiti dalla Convenzione europea per la salvaguardia dei diritti dell’uomo e delle libertà fondamentali, firmata a Roma il 4 novembre 1950, e quali risultano dalle tradizioni costituzionali comuni degli Stati membri, in quanto principi generali del diritto comunitario."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bb0fb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4bb0fb"/>
                </a:solidFill>
                <a:latin typeface="Comic Sans MS"/>
              </a:rPr>
              <a:t>( Art. F del Trattato sull’Unione europea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bb0fb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bb0fb"/>
                </a:solidFill>
                <a:latin typeface="Comic Sans MS"/>
              </a:rPr>
              <a:t>LA COSTITUZIONE EUROP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bb0fb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4bb0fb"/>
                </a:solidFill>
                <a:latin typeface="Comic Sans MS"/>
                <a:ea typeface="Times New Roman"/>
              </a:rPr>
              <a:t>Ci piace pensare che è l’uomo, bianco, giallo o nero, forte o indifeso, bambino o anziano o disabile, al centro della Costituzione.</a:t>
            </a:r>
            <a:br>
              <a:rPr sz="2800"/>
            </a:br>
            <a:r>
              <a:rPr b="0" lang="it-IT" sz="2800" spc="-1" strike="noStrike">
                <a:solidFill>
                  <a:srgbClr val="4bb0fb"/>
                </a:solidFill>
                <a:latin typeface="Comic Sans MS"/>
                <a:ea typeface="Times New Roman"/>
              </a:rPr>
              <a:t>Mentre tutto cambia in maniera impetuosa e le conquiste tecnologiche si susseguono a ritmo quasi quotidiano per realizzare una migliore qualità della vita, la costituzione ripropone la centralità dell’uomo con le sue esigenze prioritarie e irrinunciabili.</a:t>
            </a:r>
            <a:r>
              <a:rPr b="0" lang="it-IT" sz="2800" spc="-1" strike="noStrike">
                <a:solidFill>
                  <a:srgbClr val="4bb0fb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bb0fb"/>
                </a:solidFill>
                <a:latin typeface="Comic Sans MS"/>
              </a:rPr>
              <a:t>LA COSTITUZIONE EUROP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bb0fb"/>
                </a:solidFill>
                <a:latin typeface="Comic Sans MS"/>
              </a:rPr>
              <a:t>    </a:t>
            </a:r>
            <a:r>
              <a:rPr b="0" lang="it-IT" sz="2200" spc="-1" strike="noStrike">
                <a:solidFill>
                  <a:srgbClr val="4bb0fb"/>
                </a:solidFill>
                <a:latin typeface="Comic Sans MS"/>
                <a:ea typeface="Times New Roman"/>
              </a:rPr>
              <a:t>Il forte richiamo al rispetto della dignità umana, della vita, dell’integrità fisica e psichica, all’ uguaglianza davanti alla legge, al rispetto delle diversità culturali, religiose e linguistiche; il richiamo alla parità tra uomini e donne ci aiuta a sperare che l’umanità possa e debba cambiare mettendo da parte odi razziali e religiosi che sono stati, e purtroppo sono ancora, alla base sia di recenti che di attuali conflitti internazionali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bb0fb"/>
                </a:solidFill>
                <a:latin typeface="Comic Sans MS"/>
                <a:ea typeface="Times New Roman"/>
              </a:rPr>
              <a:t>      </a:t>
            </a:r>
            <a:r>
              <a:rPr b="0" lang="it-IT" sz="2200" spc="-1" strike="noStrike">
                <a:solidFill>
                  <a:srgbClr val="4bb0fb"/>
                </a:solidFill>
                <a:latin typeface="Comic Sans MS"/>
                <a:ea typeface="Times New Roman"/>
              </a:rPr>
              <a:t>Con i suoi principi la Costituzione ci aiuta a guardare avanti con la convinzione che è necessario impegnarsi per costruire un mondo migliore, di cui essa traccia un meraviglioso profilo riproponendo i diritti inviolabili della persona umana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bb0fb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bb0fb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07:27:16Z</dcterms:created>
  <dc:creator>deledda</dc:creator>
  <dc:description/>
  <dc:language>en-US</dc:language>
  <cp:lastModifiedBy>studente</cp:lastModifiedBy>
  <dcterms:modified xsi:type="dcterms:W3CDTF">2005-03-21T09:30:24Z</dcterms:modified>
  <cp:revision>20</cp:revision>
  <dc:subject/>
  <dc:title>I DIRITTI UMANI</dc:title>
</cp:coreProperties>
</file>