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B84-29B3-4F93-92C7-C604D0C2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C48-A4F3-455A-8E05-1709E3C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E6B-2DFA-4445-9E34-F398AA19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F8A-83CD-429B-A101-4EFC54CE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0B5-52E0-4A7E-86F9-3C652B3F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A77-A02D-43EC-A102-A49DD19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B95-5720-42D6-9199-DAE5CF8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82A-3A71-4509-A601-21DA25B6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120-B74C-47A1-AE3B-61927402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AE-D763-4F3A-B098-823BE7A2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97C-74DD-482C-AA4B-73F761F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47D-4075-4EF4-B541-B497B67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F074-18C9-4017-A307-348A2037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DALL’ALLARGAMENTO DELL’UNIONE ALL’INTEGRAZION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o Monica &amp; Pallù Stef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.T.G. “S. Pertini”-Porde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6172200"/>
            <a:ext cx="3124440" cy="304920"/>
            <a:chOff x="2895480" y="6172200"/>
            <a:chExt cx="3124440" cy="304920"/>
          </a:xfrm>
        </p:grpSpPr>
        <p:sp>
          <p:nvSpPr>
            <p:cNvPr id="44" name=""/>
            <p:cNvSpPr/>
            <p:nvPr/>
          </p:nvSpPr>
          <p:spPr>
            <a:xfrm>
              <a:off x="3809880" y="6172200"/>
              <a:ext cx="381240" cy="304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38680" y="6172200"/>
              <a:ext cx="38124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724280" y="6172200"/>
              <a:ext cx="381240" cy="3049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6172200"/>
              <a:ext cx="381240" cy="304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120" y="3048120"/>
            <a:ext cx="304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Unione Europea e la Costituzione in sin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880"/>
            <a:ext cx="2438280" cy="45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appe principali della storia dell’U.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05/05/1950 Robert Sc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1951 C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1957 CEE e CE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1986 Atto unico europ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1992 Trattato di Maastr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08/12/2000 Trattato di Niz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10/01/2002 unione mone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-29/10/2004 Costit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80880"/>
            <a:ext cx="25146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gani principali dell’U.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nsig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nsiglio Europ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Parlamento Europ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m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rte di Giustiz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rte dei Co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3884760"/>
            <a:ext cx="2514600" cy="26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etenze dell’U.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tica, economia, commercio, tutela ambientale, fonti rinnovabili dell’energia, sicurezza alimentare, biotecnologia, lavoratori, innovazione tecnico-scientifica, ricerca e industr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457200"/>
            <a:ext cx="2514600" cy="31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ituzione Europ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ta per favorire il senso di appartenenza dei cittadini a una comunità, il processo di globalizzazione (sotto il profilo economico) e per ottenere un’identità giuridica. Infine è nata per preservare le diverse culture europee e la memoria storica dei Pae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4956120"/>
            <a:ext cx="54864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 che cosa si occupa la Costitu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garantire il rispetto di libertà, valori e un modello di socie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azioni di solidarietà agli Stati in difficol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migliorare la vita politica dell’Un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raggiungere degli obiettivi comuni a tutti gli Stati memb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ncretizzare il concetto di cittadino europ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76320" y="6324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8120" y="304812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ONTARIATO EUROP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2666880" cy="499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a off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la possibilità di attuare il processo di integrazione cultu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accrescere il senso di appartenenza ad una 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accrescere l’idea di essere cittadino europ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onoscere e rispettare nuove culture, nuove persone, nuove tradizioni, nuove lingue e far conoscere le prop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attuare un processo di matu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aiutare il pross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28600"/>
            <a:ext cx="4343400" cy="19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a succede nella realt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i obiettivi, da quanto abbiamo potuto constatare di persona, sono raggiunti in parte. Bisogna lavorare molto per acquisire una mentalità europea e quello che manca è l’informazione su queste attività e sull’Unione Europ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2514600"/>
            <a:ext cx="2362320" cy="289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ranze per il futur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uscire ad acquisire una mentalità europea e rendersi conto che non ci devono essere più barriere tra i popoli: ora siamo come una “grande famiglia” dove tutti devono collaborare insieme per raggiungere obiettivi comu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4038480"/>
            <a:ext cx="3048120" cy="26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ll’incontro con alcuni volontari europei è emerso ch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c’è poca informazione tra le persone, specialmente tra i giovani, cittadini del do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non è sentito il senso di appartenenza ad una 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è raggiunto l’obiettivo di far conoscere le diverse 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28600" y="6324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38cd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6880" y="2743200"/>
            <a:ext cx="3429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INIONI PERS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5351400" cy="218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ZIONE CULTUR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Non è sentito lo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irito di appartenenza alla Comun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Poco interesse da parte delle pers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Scarsa informazione, anche tra i gi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L’integrazione culturale può portare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vantaggi e svanta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809880"/>
            <a:ext cx="8686800" cy="218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ERENZ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Hanno aggirato l’argomento fondamentale (integrazione cultura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Linguaggio complesso, inadatto ad un pubblico delle scuole superi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Non hanno fornito le informazioni fondamentali e i dettagli sul lavoro da svolg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Hanno analizzato principalmente l’UE dal punto di vista legislativo ed economico, e non cultu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iscorsi dispersivi e lunghi, a vo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45080" y="263520"/>
            <a:ext cx="2519640" cy="229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GGERI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iscorsi brevi, diretti, utilizzando un linguaggio sempl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Interventi di persone e politici europei che possono fornire punti di vista diversi e nu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76320" y="6324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50000">
              <a:srgbClr val="ffff66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rlisle"/>
              </a:rPr>
              <a:t>FATTA L’EUROPA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rlisle"/>
              </a:rPr>
              <a:t>FACCIAMO GLI EUROPEI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324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NTAGGI E SVANTAGGI DELL’INTEGRAZIONE CULTU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ntagg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Contribuire alla formazione di un’unità tra le pers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Sconfiggere sentimenti quali intolleranza, razzismo e i pregiudizi verso il dive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vantagg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perdita di alcune delle caratteristiche peculiari delle culture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76320" y="6324480"/>
            <a:ext cx="380880" cy="3049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34520" y="6400800"/>
            <a:ext cx="30456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623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419720" cy="231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00600" y="1066680"/>
            <a:ext cx="28954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 di appartenenza all'UE, in percentuale rispetto alle persone interroga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906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7-5-fier-d-etre-europeen_it" descr="Grado di orgoglio dell’appartenenza all’UE, 2002"/>
          <p:cNvPicPr/>
          <p:nvPr/>
        </p:nvPicPr>
        <p:blipFill>
          <a:blip r:embed="rId2"/>
          <a:stretch/>
        </p:blipFill>
        <p:spPr>
          <a:xfrm>
            <a:off x="304920" y="3733920"/>
            <a:ext cx="4762440" cy="2876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86400" y="48769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o di orgoglio dell'appartenenza all'UE, in percentuale rispetto alle persone interro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6248520"/>
            <a:ext cx="30456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7:39:57Z</dcterms:created>
  <dc:creator>MONICA MIO</dc:creator>
  <dc:description/>
  <dc:language>en-US</dc:language>
  <cp:lastModifiedBy>MONICA MIO</cp:lastModifiedBy>
  <dcterms:modified xsi:type="dcterms:W3CDTF">2005-03-22T17:48:14Z</dcterms:modified>
  <cp:revision>8</cp:revision>
  <dc:subject/>
  <dc:title>DALL’ALLARGAMENTO DELL’UNIONE ALL’INTEGRAZIONE CULTURALE</dc:title>
</cp:coreProperties>
</file>