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27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29.jpeg" ContentType="image/jpeg"/>
  <Override PartName="/ppt/media/image6.jpeg" ContentType="image/jpeg"/>
  <Override PartName="/ppt/media/image11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2F2C-01F2-4698-B718-5CC9320F70E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 DIAPOS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 BRETAG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L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U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SEMBU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OGA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BLICA CE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BLICA SLOVA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V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G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EZ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GH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U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P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LA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D7B-96A5-4F9D-80CB-611B891F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2AF-220B-41F2-8614-2D92CF59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6CE-EAFF-4DB5-8341-3D0229B9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951-C293-4B3F-B0D8-A80D8B29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6F1-A9DC-4F9A-AED8-7E827AA3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C0F-AD3A-48F0-8ABD-77F51698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3F5-DBC9-4E5A-B05A-4AAAEF4F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A54-D30E-4963-ABA2-28D7E387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498-0192-4646-94E8-235D46D5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FCD-360D-4C5A-BB7E-25C8BC6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04C-4BA6-493C-B023-E4A00A5E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184-E9AD-434F-B4DA-DA15C843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E5B2-CBD2-4005-BBD5-0A91AAF5F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 rot="421800">
            <a:off x="868320" y="1074240"/>
            <a:ext cx="7021440" cy="53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UROP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UI, MERCI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19320" y="1066680"/>
            <a:ext cx="68580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5491"/>
                <a:gd name="adj2" fmla="val 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UROPA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A, DANKE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1143000"/>
            <a:ext cx="7848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UROPE?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YES, THANKS!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219320" y="1600200"/>
            <a:ext cx="6905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SimSun"/>
              </a:rPr>
              <a:t>EVROPA?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99"/>
                  </a:gs>
                  <a:gs pos="100000">
                    <a:srgbClr val="ff0000"/>
                  </a:gs>
                </a:gsLst>
                <a:lin ang="5400000"/>
              </a:gradFill>
              <a:latin typeface="SimSun"/>
              <a:ea typeface="SimSu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SimSun"/>
              </a:rPr>
              <a:t>NE, EFKARISTO!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99"/>
                  </a:gs>
                  <a:gs pos="100000">
                    <a:srgbClr val="ff0000"/>
                  </a:gs>
                </a:gsLst>
                <a:lin ang="5400000"/>
              </a:gradFill>
              <a:latin typeface="SimSun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1143000"/>
            <a:ext cx="76197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 MHAITH LEAT AN EORAIP?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 MHAITH LIOM,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 RAIBH MAITH AGAT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14400" y="1143000"/>
            <a:ext cx="73915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9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66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Times New Roman"/>
              </a:rPr>
              <a:t>EUROP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66ff"/>
                  </a:gs>
                  <a:gs pos="100000">
                    <a:srgbClr val="3333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66ff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Times New Roman"/>
              </a:rPr>
              <a:t>JA, PALDIE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66ff"/>
                  </a:gs>
                  <a:gs pos="100000">
                    <a:srgbClr val="3333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90720" y="1066680"/>
            <a:ext cx="71625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EUROP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TAIP, ACìU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38080" y="990720"/>
            <a:ext cx="74678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UROPA?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, MERCI!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19320" y="1295280"/>
            <a:ext cx="693396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878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WRÒPA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878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878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VA, GRAZZI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878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19320" y="1371600"/>
            <a:ext cx="68580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028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UROPA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028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028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, DANK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028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838080"/>
            <a:ext cx="67820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UROPA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ì, GRAZIE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676520" y="1371600"/>
            <a:ext cx="59245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lbertus Extra Bold"/>
              </a:rPr>
              <a:t>EUROPA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lbertus Extra Bold"/>
              <a:ea typeface="Albertus Extra Bol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2280" y="4114800"/>
            <a:ext cx="867744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lbertus Medium"/>
              </a:rPr>
              <a:t>TAK, DKIEKJE!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lbertus Medium"/>
              <a:ea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838080"/>
            <a:ext cx="787248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29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UROPA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, AGRADECIMENTOS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38080" y="1295280"/>
            <a:ext cx="70106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8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d5fe"/>
                    </a:gs>
                    <a:gs pos="100000">
                      <a:srgbClr val="ff99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EUROP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d5fe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d5fe"/>
                    </a:gs>
                    <a:gs pos="100000">
                      <a:srgbClr val="ff99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ANO, DEKUJI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d5fe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92280"/>
            <a:ext cx="914400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EUROPA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O, ĎAKUJEM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0200" y="1219320"/>
            <a:ext cx="63244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Impact"/>
              </a:rPr>
              <a:t>EUROP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Impact"/>
              </a:rPr>
              <a:t>DA, MULTUMES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685800"/>
            <a:ext cx="70866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2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UROPA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, HWALA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914400"/>
            <a:ext cx="70372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¿EUROPA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ì , GRACIA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66680" y="1447920"/>
            <a:ext cx="70866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d0101"/>
                    </a:gs>
                    <a:gs pos="50000">
                      <a:srgbClr val="fadcd4"/>
                    </a:gs>
                    <a:gs pos="100000">
                      <a:srgbClr val="fd0101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UROPA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d0101"/>
                  </a:gs>
                  <a:gs pos="50000">
                    <a:srgbClr val="fadcd4"/>
                  </a:gs>
                  <a:gs pos="100000">
                    <a:srgbClr val="fd0101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d0101"/>
                    </a:gs>
                    <a:gs pos="50000">
                      <a:srgbClr val="fadcd4"/>
                    </a:gs>
                    <a:gs pos="100000">
                      <a:srgbClr val="fd0101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YA, TACK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d0101"/>
                  </a:gs>
                  <a:gs pos="50000">
                    <a:srgbClr val="fadcd4"/>
                  </a:gs>
                  <a:gs pos="100000">
                    <a:srgbClr val="fd0101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600200"/>
            <a:ext cx="754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762120"/>
            <a:ext cx="7543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e1604"/>
                </a:solidFill>
                <a:latin typeface="Albertus Medium"/>
              </a:rPr>
              <a:t>EURÓPA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e1604"/>
                </a:solidFill>
                <a:latin typeface="Albertus Medium"/>
              </a:rPr>
              <a:t>SÉ,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e1604"/>
                </a:solidFill>
                <a:latin typeface="Albertus Medium"/>
              </a:rPr>
              <a:t>KÖSZÖNE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295280" y="83808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URÓPE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HE E VEGNI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92360" y="1628640"/>
            <a:ext cx="57592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UROPA?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, DANK!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838080" y="914400"/>
            <a:ext cx="75438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4468"/>
                <a:gd name="adj2" fmla="val -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e1604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w Cen MT Condensed Extra Bold"/>
              </a:rPr>
              <a:t>EUROPA?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e1604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w Cen MT Condensed Extra Bold"/>
              <a:ea typeface="Tw Cen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e1604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w Cen MT Condensed Extra Bold"/>
              </a:rPr>
              <a:t>OUI, MERCI!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e1604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w Cen MT Condensed Extra Bold"/>
              <a:ea typeface="Tw Cen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66680"/>
            <a:ext cx="9144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EBPO</a:t>
            </a:r>
            <a:r>
              <a:rPr b="1" lang="en-US" sz="88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A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AA, 6</a:t>
            </a:r>
            <a:r>
              <a:rPr b="1" lang="en-US" sz="88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AROДAPЯ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86407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Symbol"/>
                <a:ea typeface="Symbol"/>
              </a:rPr>
              <a:t></a:t>
            </a:r>
            <a:r>
              <a:rPr b="1" lang="el-GR" sz="7200" spc="-1" strike="noStrike">
                <a:solidFill>
                  <a:srgbClr val="ffffff"/>
                </a:solidFill>
                <a:latin typeface="Tahoma"/>
                <a:ea typeface="Tahoma"/>
              </a:rPr>
              <a:t>ώ</a:t>
            </a:r>
            <a:r>
              <a:rPr b="1" lang="it-IT" sz="9600" spc="-1" strike="noStrike">
                <a:solidFill>
                  <a:srgbClr val="ffffff"/>
                </a:solidFill>
                <a:latin typeface="Symbol"/>
                <a:ea typeface="Symbol"/>
              </a:rPr>
              <a:t>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ff"/>
                </a:solidFill>
                <a:latin typeface="Symbol"/>
                <a:ea typeface="Symbol"/>
              </a:rPr>
              <a:t></a:t>
            </a:r>
            <a:r>
              <a:rPr b="1" lang="it-IT" sz="96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1" lang="it-IT" sz="9600" spc="-1" strike="noStrike">
                <a:solidFill>
                  <a:srgbClr val="ffffff"/>
                </a:solidFill>
                <a:latin typeface="Symbol"/>
                <a:ea typeface="Symbol"/>
              </a:rPr>
              <a:t>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057400" y="685800"/>
            <a:ext cx="51055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UROPA?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, TAK!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362320"/>
            <a:ext cx="7315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0c0c0"/>
                    </a:gs>
                    <a:gs pos="5000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atin typeface="Bookman Old Style"/>
              </a:rPr>
              <a:t>EUROOPA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0c0c0"/>
                    </a:gs>
                    <a:gs pos="5000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atin typeface="Bookman Old Style"/>
              </a:rPr>
              <a:t>JAA, TANA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14400" y="762120"/>
            <a:ext cx="73152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UROOPPA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ILLÄ, KIITO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1T23:41:58Z</dcterms:created>
  <dc:creator>x</dc:creator>
  <dc:description/>
  <dc:language>en-US</dc:language>
  <cp:lastModifiedBy>x</cp:lastModifiedBy>
  <dcterms:modified xsi:type="dcterms:W3CDTF">1997-12-31T23:03:08Z</dcterms:modified>
  <cp:revision>11</cp:revision>
  <dc:subject/>
  <dc:title>Presentazione di PowerPoint</dc:title>
</cp:coreProperties>
</file>