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9B5-7435-474D-AF4D-D1DB15FA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E03-61D5-4E96-9137-23E2865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CDD-36DA-471A-B9F4-DD110611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045-ED37-4977-835D-BE3220A0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898-9087-4D7A-8DB2-7C386682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9ED-8208-411B-9D9B-FFBF92E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850-6018-4B3C-83B8-240C0E2D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AFB-F6DF-4603-90D6-036ABD05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308-2270-4BE5-894E-7F515A6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656-320B-4D0D-A555-08D7611B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BB2-5D79-4C80-B48B-6A77FA7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383-EF32-4193-9175-AF3E4E7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3C7F-A141-4EFA-90AA-347FF43F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ope.eu.int/comm/education/programmes/socrates/socrates_it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e.eu.int/comm/education/programmes/socrates/comenius/index_it.html" TargetMode="External"/><Relationship Id="rId2" Type="http://schemas.openxmlformats.org/officeDocument/2006/relationships/hyperlink" Target="http://europe.eu.int/comm/education/programmes/socrates/erasmus/erasmus_it.html" TargetMode="External"/><Relationship Id="rId3" Type="http://schemas.openxmlformats.org/officeDocument/2006/relationships/hyperlink" Target="http://europe.eu.int/comm/education/programmes/socrates/lingua/index_it.html" TargetMode="External"/><Relationship Id="rId4" Type="http://schemas.openxmlformats.org/officeDocument/2006/relationships/hyperlink" Target="http://europe.eu.int/comm/education/programmes/socrates/minerva/ind1a_it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EUROPA E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43664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COME FORMARE NEI GIOVANI UN’IDENTI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Á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600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UROPA E CUL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0920" y="335736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..ci si può prefiggere di costruire un’identità europea partendo dalle appartenenze locali, passando per le tradizioni regionali fino alla dimensione continentale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.Mammarella – P. Cacace, </a:t>
            </a: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Le sfide dell’Europa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 - Ed. La Te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665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Istituzioni e enti locali per l’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Provvedimenti e iniziative finalizzate a favor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la formazione nei giovani di un’identità europ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Regione Friuli Venezia Giu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Comune di U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Università di U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ITC “A. Zan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p-010367-00-4"/>
          <p:cNvPicPr/>
          <p:nvPr/>
        </p:nvPicPr>
        <p:blipFill>
          <a:blip r:embed="rId1"/>
          <a:stretch/>
        </p:blipFill>
        <p:spPr>
          <a:xfrm>
            <a:off x="6300720" y="3357720"/>
            <a:ext cx="23767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FRIULI VENEZIA-GIULIA</a:t>
            </a: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Legge Regionale 31 gennaio 1989 n°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407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vviare processo di integrazione tra le diverse culture europee (art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muovere iniziative come gemellaggi, corsi di formazione ecc...(art.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ichiesta di sovvenzioni da parte di enti pubblici e privati per realizzare le iniziative(art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ttere a disposizione informazioni rivolte alla Comunità Regionale (euro inform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muovere l’euro formazione svolgendo attività di consulenza, di ricerca applicata, studi e pubblicazioni ecc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LA CASA D’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Costituita il 10 marzo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La sua sede è a Ge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OBIET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formare nei giovani una consapevolezza e cultura europ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agevolare i giovani sul mercato del lavo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porsi come tramite per le istituzioni comunitar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sostenere le potenzialità ed il ruolo del territorio nel contesto dell’Unione Europea e di Alpe Ad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p-002746-00-3"/>
          <p:cNvPicPr/>
          <p:nvPr/>
        </p:nvPicPr>
        <p:blipFill>
          <a:blip r:embed="rId1"/>
          <a:stretch/>
        </p:blipFill>
        <p:spPr>
          <a:xfrm>
            <a:off x="6012000" y="1197000"/>
            <a:ext cx="26636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TTORI D’ INTERVEN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3068640"/>
            <a:ext cx="820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formare attraverso conferenze, trasmissioni televisive e pubblicazione di materiale multimedi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rganizzare scambi e attività 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 celebrazione della “Giornata Europe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l programma “Gioventù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l programma “Leonard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giornamento e formazione, attraverso corsi e stage sui programmi dell’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p-002746-00-10"/>
          <p:cNvPicPr/>
          <p:nvPr/>
        </p:nvPicPr>
        <p:blipFill>
          <a:blip r:embed="rId1"/>
          <a:stretch/>
        </p:blipFill>
        <p:spPr>
          <a:xfrm>
            <a:off x="2987640" y="952560"/>
            <a:ext cx="28796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niziative del Comune di U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l Comune di Udine nel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90880" y="501336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Arial"/>
              </a:rPr>
              <a:t>primi progetti a co-finanziamento europ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logo gai"/>
          <p:cNvPicPr/>
          <p:nvPr/>
        </p:nvPicPr>
        <p:blipFill>
          <a:blip r:embed="rId1"/>
          <a:stretch/>
        </p:blipFill>
        <p:spPr>
          <a:xfrm>
            <a:off x="3276720" y="3789360"/>
            <a:ext cx="1095120" cy="73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logo gai"/>
          <p:cNvPicPr/>
          <p:nvPr/>
        </p:nvPicPr>
        <p:blipFill>
          <a:blip r:embed="rId2"/>
          <a:stretch/>
        </p:blipFill>
        <p:spPr>
          <a:xfrm>
            <a:off x="4643280" y="3789360"/>
            <a:ext cx="1095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ROGETTI SCAMBIO GIOVANILE EUROP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Via più concreta ed immediata per raggiungere i seguenti obietti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068640"/>
            <a:ext cx="8136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ire all'acquisizione di un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scienza di cittadino europe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ttivo, consentendo di esercitarsi nei processi democratici di presa delle decisioni e promuovendo l'esercizio dei pari diritti di espress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vorir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l'integrazione dei giovan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i diverse provenienze e di conseguenza il superamento di pregiudizi e stereotipi legati agli "stranier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erare le differenze linguistiche e culturali, valorizzando le specificità delle culture locali come parte del ricco patrimonio europ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99"/>
                </a:solidFill>
                <a:uFillTx/>
                <a:latin typeface="Arial"/>
              </a:rPr>
              <a:t>Scambio giovanile a Grillenburg (Germania) 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illenburg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9850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99"/>
                </a:solidFill>
                <a:uFillTx/>
                <a:latin typeface="Arial"/>
              </a:rPr>
              <a:t>L’organizzazione e il proge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40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ormazione giovanile attraverso gli scamb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volto nel periodo dal 28 luglio al 5 agosto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 diversi gruppi di partecipanti sono stati coinvolti in varie attività (teatro, danza, musica,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PARTECI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tte ragazzi tra i 15 e i 18 anni con una buona conoscenza dell’ingl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agazzi provenienti dalla: Germania, Italia, Polonia e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Pareri di alcuni partecip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obiettivo dell’esperienza è stato raggiunto anche se, secondo alcuni, mancavano momenti di discus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’esperienza è stata piacevole, molto interessante e ha dato loro la possibilità di conoscere altre culture, di approfondire la conoscenza dell’inglese e anche  di divertir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’ servita ad instaurare e poi mantenere nuovi rapporti con ragazzi strani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90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unità Europea: trattati di Roma 1957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incipi di efficienza econo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ultur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bù a causa delle differenze storiche, etniche e religio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ni ‘7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Altiero Spinelli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Commissario europeo per la cultura e l’informazion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ea connessione tra cultura e principi economici istitutivi della comun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dentità europe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cultura parte integrante de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rat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astricht (1992), Amsterdam (1997), Lisbona (2000), Roma (200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A CULTURA NEI TRATTATI EUROP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ogo gai"/>
          <p:cNvPicPr/>
          <p:nvPr/>
        </p:nvPicPr>
        <p:blipFill>
          <a:blip r:embed="rId1"/>
          <a:stretch/>
        </p:blipFill>
        <p:spPr>
          <a:xfrm>
            <a:off x="3492360" y="1052640"/>
            <a:ext cx="16560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Università degli Studi di U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’università di Udine promuove la partecipazione degli studenti ai progetti dell’Unione Europ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24360" y="2349360"/>
            <a:ext cx="165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rogett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gramma SOCRATES/ERASMU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artecipanti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udenti, anche stranieri regolarmente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iscritti all’Univers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ta e destinazione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ichiesti dallo stu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x destinazioni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ggioranza corsi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nuti in lingua 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urata progetto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mestrale, possibilità di anticipare o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promulg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iuti  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tributo dall’Unione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lloggio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perimento Università osp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12000" y="4724280"/>
            <a:ext cx="103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Arial"/>
              </a:rPr>
              <a:t>Intervista: progetto Era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ome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Alberto Lu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Facoltà frequentata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Ingegneria meccanica -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niversità di U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gett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rasmus 2003/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Finanziament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Comunità europea 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niversità di U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uog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Cork (Irl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urata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9 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ttività di studio (differenze con l’università italiana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Carattere più applicativo mater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Rapporto con i docenti più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Valutazione pers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Esperienza positiv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Facile integ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Conoscenza nuo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iuta a cres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p-010189-00-1"/>
          <p:cNvPicPr/>
          <p:nvPr/>
        </p:nvPicPr>
        <p:blipFill>
          <a:blip r:embed="rId15"/>
          <a:stretch/>
        </p:blipFill>
        <p:spPr>
          <a:xfrm>
            <a:off x="6012000" y="4443480"/>
            <a:ext cx="2520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Arial"/>
              </a:rPr>
              <a:t>Intervista: progetto Era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ome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Cris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Facoltà frequentata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ingue e letterature stran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gett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rasmus 1996 -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Finanziament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Comunità europea 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niversità di U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Luogo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Angers,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urata: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9 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ttività di studio (differenze con l’università italiana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iù spazio al contributo degli studenti durante i labora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Disponibilità dei docenti anche a modificare gli esami per adattarli alle esigenze degli studenti - 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Valutazione pers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Esperienza positiv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otenziamento delle competenze lingu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Conoscenza di nuova realtà in cui si è motivati ad integra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cquisizione di una nuova identità in cui quella del Paese d’origine si fonde con quella del Paese ospita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99"/>
                </a:solidFill>
                <a:uFillTx/>
                <a:latin typeface="Arial"/>
              </a:rPr>
              <a:t>Progetti promossi dall’I.T.C “A.Zan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cc0066"/>
                </a:solidFill>
                <a:uFillTx/>
                <a:latin typeface="Arial"/>
              </a:rPr>
              <a:t>COMENIUS</a:t>
            </a:r>
            <a:r>
              <a:rPr b="1" lang="it-IT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i="1" lang="it-IT" sz="2400" spc="-1" strike="noStrike">
                <a:solidFill>
                  <a:srgbClr val="000099"/>
                </a:solidFill>
                <a:latin typeface="Arial"/>
              </a:rPr>
              <a:t>Sports and Arts in the Context of Moder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promuove attività culturali tra  arte 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852640"/>
            <a:ext cx="61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iennio 2001 – 20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e scuole superi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nlandia, Germania,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biettivi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→ promuovere lo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ort come fattore di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identità nazionale ed europe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pporto giovani e arte moderna paesi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europ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Comenius Project logo"/>
          <p:cNvPicPr/>
          <p:nvPr/>
        </p:nvPicPr>
        <p:blipFill>
          <a:blip r:embed="rId1"/>
          <a:stretch/>
        </p:blipFill>
        <p:spPr>
          <a:xfrm>
            <a:off x="6516720" y="3645000"/>
            <a:ext cx="1717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99"/>
                </a:solidFill>
                <a:uFillTx/>
                <a:latin typeface="Arial"/>
              </a:rPr>
              <a:t>Progetti promossi dall’I.T.C “A.Zan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CLIL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rapporti internazionali fra le s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biettivi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acquisizione della lingua straniera attraverso l’insegnamento delle materie del corso di stu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p-010367-00-5"/>
          <p:cNvPicPr/>
          <p:nvPr/>
        </p:nvPicPr>
        <p:blipFill>
          <a:blip r:embed="rId1"/>
          <a:stretch/>
        </p:blipFill>
        <p:spPr>
          <a:xfrm>
            <a:off x="2916360" y="2133720"/>
            <a:ext cx="2808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333399"/>
                </a:solidFill>
                <a:uFillTx/>
                <a:latin typeface="Arial"/>
              </a:rPr>
              <a:t>Progetto Comenius</a:t>
            </a:r>
            <a:br>
              <a:rPr sz="44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stituto Tecnico Commerciale“A.Zanon” Udine – Ital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stituto Tecnico Economico di Nova Gorica -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1337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844640"/>
            <a:ext cx="84610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cc0066"/>
                </a:solidFill>
                <a:uFillTx/>
                <a:latin typeface="Arial"/>
              </a:rPr>
              <a:t>Sconfin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Giovani Italiani e Slov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in una cartolina per l’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a.s. 2001 - 200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Classi→ II A e II C 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221000"/>
            <a:ext cx="864072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apporti internazionali tra scuole finanziati dalla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ispettive li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biettivi: contatto con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abitu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di di pensar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73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5734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19640" y="5373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172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868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L’art. 151 titolo XII del Trattato 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viluppare le culture degli Stati membri nel rispetto delle divers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videnziare il patrimonio culturale comune europ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stenere gli scambi culturali fra gli Stati memb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oraggiare la produzione artistica e lette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oraggiare la cooperazione culturale con i paesi terzi e le organizzazioni nazionali compet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99"/>
                </a:solidFill>
                <a:uFillTx/>
                <a:latin typeface="Arial"/>
              </a:rPr>
              <a:t>Costituzione Europea art. 2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eno sviluppo delle culture degli Stati membri nel rispetto delle diversità nazionali e reg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.  Incoraggiare la cooperazione tra Stati memb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) miglioramento e diffusione della cultura e della 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)conservazione e salvaguardia del patrimonio culturale di importanza       europe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) scambi culturali non commercia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) creazione artistica e lette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. Favorire la cooperazione con i paesi terzi e le organizzazioni internazionali competenti in materia di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.  L'Unione deve tenere conto degli aspetti culturali al fine di rispettare e promuovere la diversità delle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. Stabilire azioni di incentivazione per contribuire alla realizzazione degli obiettivi previsti al presente artic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99"/>
                </a:solidFill>
                <a:uFillTx/>
                <a:latin typeface="Arial"/>
              </a:rPr>
              <a:t>Progetti europei rivolti ai giovani stud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569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crates</a:t>
            </a:r>
            <a:r>
              <a:rPr b="0" lang="it-IT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Programma europeo per l’istruzione inteso a sviluppare un’Europa della conoscenza per promuovere l’apprendimento lungo tutto l’arco della vita e incoraggiare l’accesso universale all’istruzione e l’acquisizione di qualifiche e competenze riconosciu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obiettivi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rafforzare l'istruzione a tutti i livelli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migliorare la conoscenza delle lingue straniere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promuovere la cooperazione e la mobilità nel campo  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dell'istruzione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incoraggiare l'utilizzo delle nuove tecnologie nell'istruzione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2100" spc="-1" strike="noStrike">
                <a:solidFill>
                  <a:srgbClr val="000099"/>
                </a:solidFill>
                <a:latin typeface="Arial"/>
              </a:rPr>
              <a:t>promuovere la pari opportunità in tutti i settori dell'istruzion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-010306-00-1"/>
          <p:cNvPicPr/>
          <p:nvPr/>
        </p:nvPicPr>
        <p:blipFill>
          <a:blip r:embed="rId2"/>
          <a:stretch/>
        </p:blipFill>
        <p:spPr>
          <a:xfrm>
            <a:off x="6804000" y="3068640"/>
            <a:ext cx="1944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99"/>
                </a:solidFill>
                <a:uFillTx/>
                <a:latin typeface="Arial"/>
              </a:rPr>
              <a:t>Socrates si compone di otto azion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enius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: insegnamento scolas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asmus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: insegnamento univers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Grundtvig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 : educazione degli adulti e altri percorsi forma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gua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: apprendimento e insegnamento delle lingue europ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nerva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 : tecnologie dell’informazione e della comunicazione nel settore dell’istru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Osservazione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 e innovazione dei sistemi e delle politiche in materia di istruzio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Azioni congiunte</a:t>
            </a:r>
            <a:r>
              <a:rPr b="0" lang="it-IT" sz="2600" spc="-1" strike="noStrike">
                <a:solidFill>
                  <a:srgbClr val="000099"/>
                </a:solidFill>
                <a:latin typeface="Arial"/>
              </a:rPr>
              <a:t> con altri programmi europ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99"/>
                </a:solidFill>
                <a:latin typeface="Arial"/>
              </a:rPr>
              <a:t>Misure di accompagna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Programma "Cultura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40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Cultura 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Raffaello”                  “Arianna”               “Caleidoscop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eni culturali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     letteratura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    produzione art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Mira a realizz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uno spazio culturale com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la creazione, la diffusione della c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il patrimonio culturale euro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Sos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progetti di cooperazione trans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ATTO Decisione 508/2000/CE del Parlamento europeo e del Consiglio, del 14 febbraio 2000, che istituisce il programma "Cultura 2000" [</a:t>
            </a: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Cfr atti modificativi</a:t>
            </a: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58560" y="1628640"/>
            <a:ext cx="20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170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1628640"/>
            <a:ext cx="18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0360" y="2924280"/>
            <a:ext cx="29527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rogramma in favore delle organizzazioni e delle azioni d'interesse 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Le organizzazioni di interesse culturale e europeo sono organismi aventi personalità giuridica indipendente senza fini di lucro, attivi principalmente nel settore della cultura da oltre due an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biettiv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tutela e valorizzazione del patrimonio culturale e storico comune dell'Eu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potenziamento dell'attività comuni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attuazione azioni di ricerca e diffusione dell'inform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Il programma eroga sovvenzioni p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'Ufficio europeo per le lingue meno diffuse (BELM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i centri della rete di informazione e documentazione Merca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e azioni volte a proteggere e a commemorare i luoghi di martirio delle vittime civi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Arial"/>
              </a:rPr>
              <a:t>ATTO Decisione n° 792/2004/CE del Parlamento europeo e del Consiglio, del 21 aprile 2004, che stabilisce un programma d'azione comunitaria per la promozione degli organismi attivi a livello europeo nel settore della cultura [Gazzetta ufficiale n° L 138 del 30.04.2004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Associazione di studenti di materie economiche e commerciali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Scambi con studenti interessati in economia e amministrazione d'i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Esperienze pratiche o di lavoro all'est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99"/>
                </a:solidFill>
                <a:latin typeface="Arial"/>
              </a:rPr>
              <a:t>Rete mondiale di studenti che offre una serie di opportunità di scambio a livello internazionale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http://www.aiesec.org/about </a:t>
            </a: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[EN]</a:t>
            </a:r>
            <a:r>
              <a:rPr b="0" lang="it-IT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8:36:46Z</dcterms:created>
  <dc:creator>Virgolini</dc:creator>
  <dc:description/>
  <dc:language>en-US</dc:language>
  <cp:lastModifiedBy>x</cp:lastModifiedBy>
  <dcterms:modified xsi:type="dcterms:W3CDTF">1998-01-01T02:54:21Z</dcterms:modified>
  <cp:revision>65</cp:revision>
  <dc:subject/>
  <dc:title>EUROPA E CULTURA</dc:title>
</cp:coreProperties>
</file>