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355-0B1C-4557-A192-15F871DC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4FE-E047-4210-B543-DE922AF7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1CF-A287-4DCC-92F4-1BDA2A67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722-D9D6-461F-AFC3-9B7BED02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577-1D17-4371-86F9-7457ED91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F7A-B79C-404D-860E-B6D773BC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DF6-3F2C-4792-991E-36AA55C2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648-8FBF-4708-95A8-5048C597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D5A-FF06-49B0-8796-CB95DA6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7B8-253C-4758-AFFC-75A2BC6B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822-14CF-44A0-80A9-9655D79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014-A1B7-4D32-90DF-46838D1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4C8-F388-46AC-A693-F6B84F643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838080"/>
            <a:ext cx="76960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istral"/>
              </a:rPr>
              <a:t>LA COSTITUZIONE EUROPE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istral"/>
              </a:rPr>
              <a:t>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istral"/>
              </a:rPr>
              <a:t>I SUOI VALOR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6386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ENIS GIULIA - ZOF STEF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.T.C. “A. Zanon” - U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5240" y="1065240"/>
          <a:ext cx="6723000" cy="4929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5240" y="1065240"/>
                    <a:ext cx="67230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80880" y="457200"/>
          <a:ext cx="8393400" cy="547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457200"/>
                    <a:ext cx="83934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8080" y="1065240"/>
          <a:ext cx="7059600" cy="521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5240"/>
                    <a:ext cx="70596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57200" y="380880"/>
          <a:ext cx="7934400" cy="547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80880"/>
                    <a:ext cx="79344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380880"/>
          <a:ext cx="7888320" cy="5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880"/>
                    <a:ext cx="7888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066680" y="1066680"/>
          <a:ext cx="7048800" cy="6151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066680"/>
                    <a:ext cx="7048800" cy="615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3520" y="304920"/>
          <a:ext cx="7888320" cy="50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04920"/>
                    <a:ext cx="7888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19320" y="914400"/>
          <a:ext cx="6521400" cy="5613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914400"/>
                    <a:ext cx="652140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2:24:49Z</dcterms:created>
  <dc:creator>TERESA</dc:creator>
  <dc:description/>
  <dc:language>en-US</dc:language>
  <cp:lastModifiedBy>TERESA</cp:lastModifiedBy>
  <dcterms:modified xsi:type="dcterms:W3CDTF">2005-04-19T13:04:11Z</dcterms:modified>
  <cp:revision>4</cp:revision>
  <dc:subject/>
  <dc:title>Nessun titolo diapositiva</dc:title>
</cp:coreProperties>
</file>